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EAA-68E3-420B-A3AA-1CA304D8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5E7-0777-4841-B2E5-D3C8CA39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EFB-C0EB-4A64-A33E-A32F2C7A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755-1F42-4971-BF57-CB273504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2EF-D134-4CA6-A552-DBDD977F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D69-D4D5-44B8-9720-9CB3B832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A56-89B3-424E-BB2F-A931917E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6B9-B461-43AE-8A10-3C2583C7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5E4-E4B1-43C9-8864-669A878F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D6C-F0A0-4625-B52D-32E44414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E3E-A712-4D98-82C8-C6DDB51D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BB8E-78C7-4180-B47B-98D26EE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75520" y="0"/>
            <a:ext cx="1968480" cy="922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77080" y="0"/>
            <a:ext cx="2266920" cy="1052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F014-E184-4632-B06F-DCC34DAD9C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4.xml"/><Relationship Id="rId11" Type="http://schemas.openxmlformats.org/officeDocument/2006/relationships/slide" Target="slide2.xml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25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" Target="slide2.xm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PLCE web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Y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9280" y="1484280"/>
            <a:ext cx="3402000" cy="4608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48360" y="153180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mmo p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32000" y="1771560"/>
            <a:ext cx="115236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235908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dder lock buck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-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276360" y="2243160"/>
            <a:ext cx="1871640" cy="357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3079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79640" y="332100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38354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h b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879640" y="407664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4519440"/>
            <a:ext cx="302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mmo pouch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526920" y="4761000"/>
            <a:ext cx="162108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5564160"/>
            <a:ext cx="338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lt loo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trap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879640" y="5805360"/>
            <a:ext cx="226872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95640" y="501336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63640" y="499284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87640" y="535320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35280" y="531648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58920" y="216864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7640" y="1989000"/>
            <a:ext cx="144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087640" y="4761000"/>
            <a:ext cx="179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736720" y="476100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016000" y="429264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735280" y="429264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84360" y="1628640"/>
            <a:ext cx="1429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03640" y="1665360"/>
            <a:ext cx="14292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Ammo pouch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22320" cy="306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11640" y="1449360"/>
            <a:ext cx="4622760" cy="3022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4360" y="4797360"/>
            <a:ext cx="153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Release fast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0000" y="4869000"/>
            <a:ext cx="153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l tag faste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655640" y="3357360"/>
            <a:ext cx="576360" cy="13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642920" y="3860640"/>
            <a:ext cx="397080" cy="93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Ammo pouch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79640" y="2709720"/>
            <a:ext cx="2879640" cy="288000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95640" y="1773360"/>
            <a:ext cx="719280" cy="863280"/>
            <a:chOff x="3095640" y="1773360"/>
            <a:chExt cx="719280" cy="863280"/>
          </a:xfrm>
        </p:grpSpPr>
        <p:sp>
          <p:nvSpPr>
            <p:cNvPr id="154" name=""/>
            <p:cNvSpPr/>
            <p:nvPr/>
          </p:nvSpPr>
          <p:spPr>
            <a:xfrm>
              <a:off x="3095640" y="1773360"/>
              <a:ext cx="719280" cy="863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60080" y="1989000"/>
              <a:ext cx="587880" cy="5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60080" y="1844640"/>
              <a:ext cx="587880" cy="7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238560" y="2494080"/>
            <a:ext cx="431640" cy="2879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38560" y="2494080"/>
            <a:ext cx="431640" cy="1429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38560" y="2852640"/>
            <a:ext cx="431640" cy="71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38560" y="278136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38560" y="414972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38560" y="4078440"/>
            <a:ext cx="431640" cy="712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38560" y="5301360"/>
            <a:ext cx="431640" cy="71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38560" y="28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385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38560" y="2494080"/>
            <a:ext cx="431640" cy="28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22920" y="1773360"/>
            <a:ext cx="718920" cy="3600360"/>
            <a:chOff x="4822920" y="1773360"/>
            <a:chExt cx="718920" cy="3600360"/>
          </a:xfrm>
        </p:grpSpPr>
        <p:grpSp>
          <p:nvGrpSpPr>
            <p:cNvPr id="168" name=""/>
            <p:cNvGrpSpPr/>
            <p:nvPr/>
          </p:nvGrpSpPr>
          <p:grpSpPr>
            <a:xfrm>
              <a:off x="4822920" y="1773360"/>
              <a:ext cx="718920" cy="863280"/>
              <a:chOff x="4822920" y="1773360"/>
              <a:chExt cx="718920" cy="863280"/>
            </a:xfrm>
          </p:grpSpPr>
          <p:sp>
            <p:nvSpPr>
              <p:cNvPr id="169" name=""/>
              <p:cNvSpPr/>
              <p:nvPr/>
            </p:nvSpPr>
            <p:spPr>
              <a:xfrm>
                <a:off x="4822920" y="1773360"/>
                <a:ext cx="718920" cy="86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87360" y="1989000"/>
                <a:ext cx="587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87360" y="1844640"/>
                <a:ext cx="587880" cy="7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965480" y="2494080"/>
              <a:ext cx="431280" cy="2879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65480" y="2494080"/>
              <a:ext cx="431280" cy="1425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65480" y="285264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965480" y="2781360"/>
              <a:ext cx="43128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65480" y="4149720"/>
              <a:ext cx="43128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965480" y="407736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965480" y="5301360"/>
              <a:ext cx="431280" cy="716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5480" y="285264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65480" y="414972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65480" y="2494080"/>
              <a:ext cx="43128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814920" y="2852640"/>
            <a:ext cx="288720" cy="1513080"/>
            <a:chOff x="3814920" y="2852640"/>
            <a:chExt cx="288720" cy="1513080"/>
          </a:xfrm>
        </p:grpSpPr>
        <p:sp>
          <p:nvSpPr>
            <p:cNvPr id="183" name=""/>
            <p:cNvSpPr/>
            <p:nvPr/>
          </p:nvSpPr>
          <p:spPr>
            <a:xfrm>
              <a:off x="3814920" y="2852640"/>
              <a:ext cx="288720" cy="1513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14920" y="2852640"/>
              <a:ext cx="288720" cy="748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14920" y="4327920"/>
              <a:ext cx="288720" cy="374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14920" y="2852640"/>
              <a:ext cx="288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70560" y="1375920"/>
            <a:ext cx="288720" cy="1513080"/>
            <a:chOff x="4570560" y="1375920"/>
            <a:chExt cx="288720" cy="1513080"/>
          </a:xfrm>
        </p:grpSpPr>
        <p:sp>
          <p:nvSpPr>
            <p:cNvPr id="188" name=""/>
            <p:cNvSpPr/>
            <p:nvPr/>
          </p:nvSpPr>
          <p:spPr>
            <a:xfrm flipV="1">
              <a:off x="4570560" y="1375560"/>
              <a:ext cx="288720" cy="1513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70560" y="2814120"/>
              <a:ext cx="288720" cy="748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0560" y="1376280"/>
              <a:ext cx="288720" cy="3744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570560" y="1375560"/>
              <a:ext cx="28872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851280" y="4113360"/>
            <a:ext cx="216000" cy="21564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06920" y="1412280"/>
            <a:ext cx="216000" cy="22068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2889360"/>
            <a:ext cx="144720" cy="1081080"/>
          </a:xfrm>
          <a:custGeom>
            <a:avLst/>
            <a:gdLst>
              <a:gd name="textAreaLeft" fmla="*/ 6840 w 144720"/>
              <a:gd name="textAreaRight" fmla="*/ 137880 w 144720"/>
              <a:gd name="textAreaTop" fmla="*/ 6840 h 1081080"/>
              <a:gd name="textAreaBottom" fmla="*/ 1074240 h 1081080"/>
            </a:gdLst>
            <a:ahLst/>
            <a:rect l="textAreaLeft" t="textAreaTop" r="textAreaRight" b="textAreaBottom"/>
            <a:pathLst>
              <a:path w="21600" h="161008">
                <a:moveTo>
                  <a:pt x="3600" y="0"/>
                </a:moveTo>
                <a:arcTo wR="3600" hR="3600" stAng="16200000" swAng="-5400000"/>
                <a:lnTo>
                  <a:pt x="0" y="157408"/>
                </a:lnTo>
                <a:arcTo wR="3600" hR="3600" stAng="10800000" swAng="-5400000"/>
                <a:lnTo>
                  <a:pt x="18000" y="1610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424242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2852640"/>
            <a:ext cx="288720" cy="151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08360" y="4113360"/>
            <a:ext cx="214560" cy="215640"/>
          </a:xfrm>
          <a:prstGeom prst="ellipse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285264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84464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tted ‘A’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640" y="360828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belt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3146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t locator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162864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belt fix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9440" y="69152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 faste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276640"/>
            <a:ext cx="8636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58920" y="4005360"/>
            <a:ext cx="115272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824360" y="2097000"/>
            <a:ext cx="1224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032000" y="2097000"/>
            <a:ext cx="1979640" cy="97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716360" y="3573360"/>
            <a:ext cx="1511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1280" y="483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 Fa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032000" y="4257360"/>
            <a:ext cx="219708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787640" y="4292640"/>
            <a:ext cx="1439640" cy="900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2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Utility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ottle po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11640" y="177336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of pouch setup as ammo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61800" y="4567320"/>
            <a:ext cx="2876760" cy="191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635280" y="4653000"/>
            <a:ext cx="2880000" cy="190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13971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tility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382428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ater bottle Pouch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90 &amp; 95 Pa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rt guide will show you how to put the webbing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Fitting the y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reparing p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uggested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Pouch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ixing Pouche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Fixing Pouches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Fitting the yok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itting the yok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Testing &amp;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belt around your waist with two ‘D’ rings at the back held equidistant from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n QR clip at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to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move belt locator pins on LHS to a new position to ensure QR clip is cen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2560" y="1600200"/>
            <a:ext cx="41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t Yoke (Part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 yoke down on floor, with strapping facing up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yoke belt straps (strap 1) through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1 through the ladder lock buckles A &amp; B (follow red dotted ar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88200" y="5408640"/>
            <a:ext cx="144720" cy="1152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32920" y="5264280"/>
            <a:ext cx="107640" cy="104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96200" y="5121360"/>
            <a:ext cx="216000" cy="215640"/>
          </a:xfrm>
          <a:prstGeom prst="rect">
            <a:avLst/>
          </a:prstGeom>
          <a:gradFill rotWithShape="0">
            <a:gsLst>
              <a:gs pos="0">
                <a:srgbClr val="6f6f6f"/>
              </a:gs>
              <a:gs pos="50000">
                <a:srgbClr val="000000"/>
              </a:gs>
              <a:gs pos="100000">
                <a:srgbClr val="6f6f6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80200" y="3321000"/>
            <a:ext cx="73080" cy="1152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51840" y="3716280"/>
            <a:ext cx="71280" cy="12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234640" y="3900960"/>
            <a:ext cx="300240" cy="723240"/>
            <a:chOff x="8234640" y="3900960"/>
            <a:chExt cx="300240" cy="723240"/>
          </a:xfrm>
        </p:grpSpPr>
        <p:sp>
          <p:nvSpPr>
            <p:cNvPr id="242" name=""/>
            <p:cNvSpPr/>
            <p:nvPr/>
          </p:nvSpPr>
          <p:spPr>
            <a:xfrm rot="20659800">
              <a:off x="8320680" y="3898800"/>
              <a:ext cx="72720" cy="64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659800">
              <a:off x="8373600" y="4462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8177040" y="4125960"/>
            <a:ext cx="608040" cy="1155600"/>
          </a:xfrm>
          <a:custGeom>
            <a:avLst/>
            <a:gdLst/>
            <a:ahLst/>
            <a:rect l="l" t="t" r="r" b="b"/>
            <a:pathLst>
              <a:path w="383" h="728">
                <a:moveTo>
                  <a:pt x="7" y="536"/>
                </a:moveTo>
                <a:cubicBezTo>
                  <a:pt x="3" y="577"/>
                  <a:pt x="0" y="619"/>
                  <a:pt x="7" y="649"/>
                </a:cubicBezTo>
                <a:cubicBezTo>
                  <a:pt x="14" y="679"/>
                  <a:pt x="22" y="706"/>
                  <a:pt x="52" y="717"/>
                </a:cubicBezTo>
                <a:cubicBezTo>
                  <a:pt x="82" y="728"/>
                  <a:pt x="154" y="728"/>
                  <a:pt x="188" y="717"/>
                </a:cubicBezTo>
                <a:cubicBezTo>
                  <a:pt x="222" y="706"/>
                  <a:pt x="245" y="678"/>
                  <a:pt x="256" y="649"/>
                </a:cubicBezTo>
                <a:cubicBezTo>
                  <a:pt x="267" y="620"/>
                  <a:pt x="267" y="577"/>
                  <a:pt x="253" y="544"/>
                </a:cubicBezTo>
                <a:cubicBezTo>
                  <a:pt x="239" y="511"/>
                  <a:pt x="202" y="481"/>
                  <a:pt x="169" y="448"/>
                </a:cubicBezTo>
                <a:cubicBezTo>
                  <a:pt x="136" y="415"/>
                  <a:pt x="74" y="393"/>
                  <a:pt x="55" y="346"/>
                </a:cubicBezTo>
                <a:cubicBezTo>
                  <a:pt x="36" y="299"/>
                  <a:pt x="51" y="208"/>
                  <a:pt x="55" y="166"/>
                </a:cubicBezTo>
                <a:cubicBezTo>
                  <a:pt x="59" y="124"/>
                  <a:pt x="58" y="121"/>
                  <a:pt x="79" y="94"/>
                </a:cubicBezTo>
                <a:cubicBezTo>
                  <a:pt x="100" y="67"/>
                  <a:pt x="157" y="8"/>
                  <a:pt x="181" y="4"/>
                </a:cubicBezTo>
                <a:cubicBezTo>
                  <a:pt x="205" y="0"/>
                  <a:pt x="230" y="47"/>
                  <a:pt x="223" y="70"/>
                </a:cubicBezTo>
                <a:cubicBezTo>
                  <a:pt x="216" y="93"/>
                  <a:pt x="161" y="114"/>
                  <a:pt x="139" y="142"/>
                </a:cubicBezTo>
                <a:cubicBezTo>
                  <a:pt x="117" y="170"/>
                  <a:pt x="99" y="208"/>
                  <a:pt x="91" y="238"/>
                </a:cubicBezTo>
                <a:cubicBezTo>
                  <a:pt x="83" y="268"/>
                  <a:pt x="71" y="297"/>
                  <a:pt x="91" y="322"/>
                </a:cubicBezTo>
                <a:cubicBezTo>
                  <a:pt x="111" y="347"/>
                  <a:pt x="162" y="345"/>
                  <a:pt x="211" y="388"/>
                </a:cubicBezTo>
                <a:cubicBezTo>
                  <a:pt x="260" y="431"/>
                  <a:pt x="347" y="542"/>
                  <a:pt x="383" y="582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9583800">
            <a:off x="8199000" y="3712680"/>
            <a:ext cx="7164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0920" y="5408640"/>
            <a:ext cx="2735280" cy="1152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5120" y="5192640"/>
            <a:ext cx="469800" cy="14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5227560"/>
            <a:ext cx="384120" cy="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8200" y="5335560"/>
            <a:ext cx="323640" cy="104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5335560"/>
            <a:ext cx="323640" cy="525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219640" y="6335640"/>
            <a:ext cx="324000" cy="44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8200" y="5335560"/>
            <a:ext cx="323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8920" y="5408640"/>
            <a:ext cx="466920" cy="1152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523280" y="5408640"/>
            <a:ext cx="395280" cy="115236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00760" y="5192640"/>
            <a:ext cx="470160" cy="141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37480" y="5227560"/>
            <a:ext cx="384120" cy="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73840" y="5335560"/>
            <a:ext cx="324000" cy="104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73840" y="5335560"/>
            <a:ext cx="324000" cy="5256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875640" y="6335640"/>
            <a:ext cx="323640" cy="44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73840" y="5335560"/>
            <a:ext cx="32400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3480" y="2347920"/>
            <a:ext cx="2268720" cy="180036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8200" y="3679920"/>
            <a:ext cx="32364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2700000">
            <a:off x="4767840" y="3626640"/>
            <a:ext cx="324000" cy="122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2700000">
            <a:off x="4298760" y="4482720"/>
            <a:ext cx="330120" cy="432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3840" y="3753000"/>
            <a:ext cx="32400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rot="18900000">
            <a:off x="7167960" y="3758400"/>
            <a:ext cx="323640" cy="817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rot="18900000">
            <a:off x="7499520" y="4349520"/>
            <a:ext cx="330480" cy="289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efef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3753000"/>
            <a:ext cx="395280" cy="460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43400" y="4070520"/>
            <a:ext cx="274680" cy="258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11720" y="3781440"/>
            <a:ext cx="335160" cy="572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1720" y="4098960"/>
            <a:ext cx="3351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11720" y="3984480"/>
            <a:ext cx="3351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38920" y="3787920"/>
            <a:ext cx="395280" cy="575640"/>
            <a:chOff x="6838920" y="3787920"/>
            <a:chExt cx="395280" cy="575640"/>
          </a:xfrm>
        </p:grpSpPr>
        <p:sp>
          <p:nvSpPr>
            <p:cNvPr id="274" name=""/>
            <p:cNvSpPr/>
            <p:nvPr/>
          </p:nvSpPr>
          <p:spPr>
            <a:xfrm>
              <a:off x="6838920" y="3787920"/>
              <a:ext cx="395280" cy="46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00480" y="410472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69880" y="381672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69880" y="413388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69880" y="401868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218200" y="3463920"/>
            <a:ext cx="323640" cy="32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73840" y="3824280"/>
            <a:ext cx="335160" cy="57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3840" y="3463920"/>
            <a:ext cx="324000" cy="360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73480" y="1663560"/>
            <a:ext cx="2268720" cy="72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43640" y="1952640"/>
            <a:ext cx="133020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18200" y="1952640"/>
            <a:ext cx="197964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9480" y="4870440"/>
            <a:ext cx="647640" cy="395280"/>
          </a:xfrm>
          <a:custGeom>
            <a:avLst/>
            <a:gdLst>
              <a:gd name="textAreaLeft" fmla="*/ 104040 w 647640"/>
              <a:gd name="textAreaRight" fmla="*/ 478800 w 64764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-1648426"/>
                <a:lnTo>
                  <a:pt x="20561" y="11364"/>
                </a:lnTo>
                <a:lnTo>
                  <a:pt x="16669" y="0"/>
                </a:lnTo>
                <a:lnTo>
                  <a:pt x="10698" y="11364"/>
                </a:lnTo>
                <a:lnTo>
                  <a:pt x="12858" y="11364"/>
                </a:lnTo>
                <a:arcTo wR="6949" hR="21600" stAng="3751574" swAng="1170512"/>
                <a:lnTo>
                  <a:pt x="9720" y="19807"/>
                </a:lnTo>
                <a:arcTo wR="6949" hR="21600" stAng="5877915" swAng="4922085"/>
                <a:close/>
              </a:path>
              <a:path fill="darkenLess"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477915"/>
                <a:lnTo>
                  <a:pt x="9720" y="19807"/>
                </a:lnTo>
                <a:arcTo wR="6949" hR="21600" stAng="5877915" swAng="492208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46920" y="4940280"/>
            <a:ext cx="647640" cy="395280"/>
          </a:xfrm>
          <a:custGeom>
            <a:avLst/>
            <a:gdLst>
              <a:gd name="textAreaLeft" fmla="*/ 104040 w 647640"/>
              <a:gd name="textAreaRight" fmla="*/ 478800 w 647640"/>
              <a:gd name="textAreaTop" fmla="*/ 52920 h 395280"/>
              <a:gd name="textAreaBottom" fmla="*/ 34236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-1648426"/>
                <a:lnTo>
                  <a:pt x="20561" y="11364"/>
                </a:lnTo>
                <a:lnTo>
                  <a:pt x="16669" y="0"/>
                </a:lnTo>
                <a:lnTo>
                  <a:pt x="10698" y="11364"/>
                </a:lnTo>
                <a:lnTo>
                  <a:pt x="12858" y="11364"/>
                </a:lnTo>
                <a:arcTo wR="6949" hR="21600" stAng="3751574" swAng="1170512"/>
                <a:lnTo>
                  <a:pt x="9720" y="19807"/>
                </a:lnTo>
                <a:arcTo wR="6949" hR="21600" stAng="5877915" swAng="4922085"/>
                <a:close/>
              </a:path>
              <a:path fill="darkenLess" w="21600" h="21600">
                <a:moveTo>
                  <a:pt x="0" y="0"/>
                </a:moveTo>
                <a:arcTo wR="6949" hR="21600" stAng="10800000" swAng="-5400000"/>
                <a:lnTo>
                  <a:pt x="12492" y="21600"/>
                </a:lnTo>
                <a:arcTo wR="6949" hR="21600" stAng="5400000" swAng="477915"/>
                <a:lnTo>
                  <a:pt x="9720" y="19807"/>
                </a:lnTo>
                <a:arcTo wR="6949" hR="21600" stAng="5877915" swAng="4922085"/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237080" y="4019040"/>
            <a:ext cx="638280" cy="649440"/>
            <a:chOff x="7237080" y="4019040"/>
            <a:chExt cx="638280" cy="649440"/>
          </a:xfrm>
        </p:grpSpPr>
        <p:sp>
          <p:nvSpPr>
            <p:cNvPr id="288" name=""/>
            <p:cNvSpPr/>
            <p:nvPr/>
          </p:nvSpPr>
          <p:spPr>
            <a:xfrm rot="19025400">
              <a:off x="7340760" y="4092120"/>
              <a:ext cx="395280" cy="46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9025400">
              <a:off x="7549200" y="435060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9025400">
              <a:off x="7254000" y="416700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9025400">
              <a:off x="7470360" y="43995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9025400">
              <a:off x="7391880" y="43149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23760" y="4004280"/>
            <a:ext cx="643680" cy="644040"/>
            <a:chOff x="4523760" y="4004280"/>
            <a:chExt cx="643680" cy="644040"/>
          </a:xfrm>
        </p:grpSpPr>
        <p:sp>
          <p:nvSpPr>
            <p:cNvPr id="294" name=""/>
            <p:cNvSpPr/>
            <p:nvPr/>
          </p:nvSpPr>
          <p:spPr>
            <a:xfrm rot="2711400">
              <a:off x="4667040" y="4076280"/>
              <a:ext cx="395280" cy="460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2711400">
              <a:off x="4574880" y="4330080"/>
              <a:ext cx="274680" cy="25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2711400">
              <a:off x="4820400" y="4156200"/>
              <a:ext cx="33336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711400">
              <a:off x="4595040" y="437976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711400">
              <a:off x="4676760" y="4298400"/>
              <a:ext cx="33336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5256360" y="3732120"/>
            <a:ext cx="206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256360" y="456732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948360" y="4638600"/>
            <a:ext cx="144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392720" y="4510080"/>
            <a:ext cx="14436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740720" y="4422600"/>
            <a:ext cx="144360" cy="2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88000" y="4170240"/>
            <a:ext cx="179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912000" y="3768840"/>
            <a:ext cx="20628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416720" y="4149720"/>
            <a:ext cx="1796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592280"/>
            <a:ext cx="47512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epare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o stud fastenings, lift webbing fixing loops &amp; belt locator pins so they are pointing upwards and do not infer when threading the belt through the webbing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72000" y="1447920"/>
            <a:ext cx="2879640" cy="4212720"/>
            <a:chOff x="5472000" y="1447920"/>
            <a:chExt cx="2879640" cy="4212720"/>
          </a:xfrm>
        </p:grpSpPr>
        <p:sp>
          <p:nvSpPr>
            <p:cNvPr id="313" name=""/>
            <p:cNvSpPr/>
            <p:nvPr/>
          </p:nvSpPr>
          <p:spPr>
            <a:xfrm>
              <a:off x="5472000" y="2781000"/>
              <a:ext cx="2879640" cy="28796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6407280" y="1447920"/>
              <a:ext cx="288720" cy="1512720"/>
              <a:chOff x="6407280" y="1447920"/>
              <a:chExt cx="288720" cy="151272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6407280" y="1447920"/>
                <a:ext cx="288720" cy="15127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6407280" y="2885760"/>
                <a:ext cx="288720" cy="74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7280" y="1448280"/>
                <a:ext cx="288720" cy="374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6407280" y="1447920"/>
                <a:ext cx="288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688000" y="1844640"/>
              <a:ext cx="719280" cy="863280"/>
              <a:chOff x="5688000" y="1844640"/>
              <a:chExt cx="719280" cy="863280"/>
            </a:xfrm>
          </p:grpSpPr>
          <p:sp>
            <p:nvSpPr>
              <p:cNvPr id="320" name=""/>
              <p:cNvSpPr/>
              <p:nvPr/>
            </p:nvSpPr>
            <p:spPr>
              <a:xfrm>
                <a:off x="5688000" y="1844640"/>
                <a:ext cx="719280" cy="863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52440" y="2060280"/>
                <a:ext cx="587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752440" y="1915920"/>
                <a:ext cx="587880" cy="7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830920" y="2565360"/>
              <a:ext cx="431640" cy="2879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30920" y="2565360"/>
              <a:ext cx="431640" cy="1425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30920" y="2923920"/>
              <a:ext cx="43164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830920" y="285192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30920" y="422100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830920" y="4149000"/>
              <a:ext cx="431640" cy="70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830920" y="5373360"/>
              <a:ext cx="431640" cy="712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30920" y="2923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30920" y="4221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30920" y="2565360"/>
              <a:ext cx="431640" cy="28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415280" y="1844640"/>
              <a:ext cx="718920" cy="3599640"/>
              <a:chOff x="7415280" y="1844640"/>
              <a:chExt cx="718920" cy="359964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7415280" y="1844640"/>
                <a:ext cx="718920" cy="862920"/>
                <a:chOff x="7415280" y="1844640"/>
                <a:chExt cx="718920" cy="8629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415280" y="1844640"/>
                  <a:ext cx="718920" cy="862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646464"/>
                    </a:gs>
                    <a:gs pos="100000">
                      <a:srgbClr val="00000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479720" y="2059920"/>
                  <a:ext cx="587880" cy="576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479720" y="1915560"/>
                  <a:ext cx="5878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557840" y="2565000"/>
                <a:ext cx="431280" cy="28792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557840" y="2565000"/>
                <a:ext cx="431280" cy="14220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57840" y="292356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7557840" y="2851560"/>
                <a:ext cx="431280" cy="70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557840" y="4220640"/>
                <a:ext cx="431280" cy="70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7557840" y="414900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557840" y="5373000"/>
                <a:ext cx="431280" cy="71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57840" y="292356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57840" y="422064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557840" y="2565000"/>
                <a:ext cx="431280" cy="2879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162920" y="1447920"/>
              <a:ext cx="288720" cy="1512720"/>
              <a:chOff x="7162920" y="1447920"/>
              <a:chExt cx="288720" cy="151272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7162920" y="1447920"/>
                <a:ext cx="288720" cy="15127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162920" y="2885760"/>
                <a:ext cx="288720" cy="74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62920" y="1448280"/>
                <a:ext cx="288720" cy="374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7162920" y="1447920"/>
                <a:ext cx="28872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 flipV="1">
              <a:off x="7199280" y="1484280"/>
              <a:ext cx="216000" cy="220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8560" y="1879560"/>
              <a:ext cx="144360" cy="1080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1080720"/>
                <a:gd name="textAreaBottom" fmla="*/ 1073880 h 1080720"/>
              </a:gdLst>
              <a:ahLst/>
              <a:rect l="textAreaLeft" t="textAreaTop" r="textAreaRight" b="textAreaBottom"/>
              <a:pathLst>
                <a:path w="21600" h="161355">
                  <a:moveTo>
                    <a:pt x="3600" y="0"/>
                  </a:moveTo>
                  <a:arcTo wR="3600" hR="3600" stAng="16200000" swAng="-5400000"/>
                  <a:lnTo>
                    <a:pt x="0" y="157755"/>
                  </a:lnTo>
                  <a:arcTo wR="3600" hR="3600" stAng="10800000" swAng="-5400000"/>
                  <a:lnTo>
                    <a:pt x="18000" y="1613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2920" y="2923920"/>
              <a:ext cx="288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00720" y="4184640"/>
              <a:ext cx="214560" cy="2152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443640" y="1484280"/>
              <a:ext cx="216000" cy="220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07280" y="2923920"/>
              <a:ext cx="288720" cy="15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45080" y="4184640"/>
              <a:ext cx="214560" cy="2152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35640" y="1879560"/>
              <a:ext cx="144720" cy="1080720"/>
            </a:xfrm>
            <a:custGeom>
              <a:avLst/>
              <a:gdLst>
                <a:gd name="textAreaLeft" fmla="*/ 6840 w 144720"/>
                <a:gd name="textAreaRight" fmla="*/ 137880 w 144720"/>
                <a:gd name="textAreaTop" fmla="*/ 6840 h 1080720"/>
                <a:gd name="textAreaBottom" fmla="*/ 1073880 h 1080720"/>
              </a:gdLst>
              <a:ahLst/>
              <a:rect l="textAreaLeft" t="textAreaTop" r="textAreaRight" b="textAreaBottom"/>
              <a:pathLst>
                <a:path w="21600" h="160955">
                  <a:moveTo>
                    <a:pt x="3600" y="0"/>
                  </a:moveTo>
                  <a:arcTo wR="3600" hR="3600" stAng="16200000" swAng="-5400000"/>
                  <a:lnTo>
                    <a:pt x="0" y="157355"/>
                  </a:lnTo>
                  <a:arcTo wR="3600" hR="3600" stAng="10800000" swAng="-5400000"/>
                  <a:lnTo>
                    <a:pt x="18000" y="1609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uggested posi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pouch positioning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55640" y="2637000"/>
            <a:ext cx="5473800" cy="2121840"/>
            <a:chOff x="1655640" y="2637000"/>
            <a:chExt cx="5473800" cy="2121840"/>
          </a:xfrm>
        </p:grpSpPr>
        <p:sp>
          <p:nvSpPr>
            <p:cNvPr id="367" name=""/>
            <p:cNvSpPr/>
            <p:nvPr/>
          </p:nvSpPr>
          <p:spPr>
            <a:xfrm>
              <a:off x="2016000" y="4145040"/>
              <a:ext cx="4608360" cy="4345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17880" y="4064040"/>
              <a:ext cx="176040" cy="5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30480" y="4076640"/>
              <a:ext cx="144360" cy="2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44880" y="4118040"/>
              <a:ext cx="122040" cy="393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44880" y="4118040"/>
              <a:ext cx="122040" cy="183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944880" y="4493520"/>
              <a:ext cx="122040" cy="16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44880" y="4118040"/>
              <a:ext cx="122040" cy="39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38520" y="4064040"/>
              <a:ext cx="177840" cy="5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52920" y="4076640"/>
              <a:ext cx="144360" cy="26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66960" y="4118040"/>
              <a:ext cx="120600" cy="393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66960" y="4118040"/>
              <a:ext cx="120600" cy="1836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566960" y="4493520"/>
              <a:ext cx="122400" cy="1692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66960" y="4118040"/>
              <a:ext cx="120600" cy="39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44880" y="3535200"/>
              <a:ext cx="12204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66960" y="3535200"/>
              <a:ext cx="12060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76360" y="3967200"/>
              <a:ext cx="57636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33440" y="3967200"/>
              <a:ext cx="755640" cy="7916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2872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6836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89440" y="3967200"/>
              <a:ext cx="576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54520" y="3967200"/>
              <a:ext cx="755640" cy="7916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4980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89440" y="3967200"/>
              <a:ext cx="324000" cy="7916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836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872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76360" y="3967200"/>
              <a:ext cx="576360" cy="433080"/>
            </a:xfrm>
            <a:custGeom>
              <a:avLst/>
              <a:gdLst>
                <a:gd name="textAreaLeft" fmla="*/ 126720 w 576360"/>
                <a:gd name="textAreaRight" fmla="*/ 449640 w 576360"/>
                <a:gd name="textAreaTop" fmla="*/ 95040 h 433080"/>
                <a:gd name="textAreaBottom" fmla="*/ 3380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9440" y="3967200"/>
              <a:ext cx="576000" cy="433080"/>
            </a:xfrm>
            <a:custGeom>
              <a:avLst/>
              <a:gdLst>
                <a:gd name="textAreaLeft" fmla="*/ 126720 w 576000"/>
                <a:gd name="textAreaRight" fmla="*/ 449280 w 576000"/>
                <a:gd name="textAreaTop" fmla="*/ 95040 h 433080"/>
                <a:gd name="textAreaBottom" fmla="*/ 338040 h 4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8944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49800" y="3967200"/>
              <a:ext cx="324000" cy="540720"/>
            </a:xfrm>
            <a:custGeom>
              <a:avLst/>
              <a:gdLst>
                <a:gd name="textAreaLeft" fmla="*/ 71280 w 324000"/>
                <a:gd name="textAreaRight" fmla="*/ 252720 w 324000"/>
                <a:gd name="textAreaTop" fmla="*/ 118800 h 540720"/>
                <a:gd name="textAreaBottom" fmla="*/ 421920 h 54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12720" y="411156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73080" y="411156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3560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9416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6544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78160" y="4076640"/>
              <a:ext cx="34920" cy="5392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266920" y="3679560"/>
              <a:ext cx="180720" cy="252360"/>
              <a:chOff x="2266920" y="3679560"/>
              <a:chExt cx="180720" cy="252360"/>
            </a:xfrm>
          </p:grpSpPr>
          <p:sp>
            <p:nvSpPr>
              <p:cNvPr id="403" name=""/>
              <p:cNvSpPr/>
              <p:nvPr/>
            </p:nvSpPr>
            <p:spPr>
              <a:xfrm>
                <a:off x="2266920" y="3679560"/>
                <a:ext cx="18072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28312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8312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771640" y="3679560"/>
              <a:ext cx="181080" cy="252360"/>
              <a:chOff x="2771640" y="3679560"/>
              <a:chExt cx="181080" cy="252360"/>
            </a:xfrm>
          </p:grpSpPr>
          <p:sp>
            <p:nvSpPr>
              <p:cNvPr id="407" name=""/>
              <p:cNvSpPr/>
              <p:nvPr/>
            </p:nvSpPr>
            <p:spPr>
              <a:xfrm>
                <a:off x="2771640" y="3679560"/>
                <a:ext cx="18108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8784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8784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5688000" y="3679560"/>
              <a:ext cx="180720" cy="252360"/>
              <a:chOff x="5688000" y="3679560"/>
              <a:chExt cx="180720" cy="252360"/>
            </a:xfrm>
          </p:grpSpPr>
          <p:sp>
            <p:nvSpPr>
              <p:cNvPr id="411" name=""/>
              <p:cNvSpPr/>
              <p:nvPr/>
            </p:nvSpPr>
            <p:spPr>
              <a:xfrm>
                <a:off x="5688000" y="3679560"/>
                <a:ext cx="18072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0420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0420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192720" y="3679560"/>
              <a:ext cx="181080" cy="252360"/>
              <a:chOff x="6192720" y="3679560"/>
              <a:chExt cx="181080" cy="252360"/>
            </a:xfrm>
          </p:grpSpPr>
          <p:sp>
            <p:nvSpPr>
              <p:cNvPr id="415" name=""/>
              <p:cNvSpPr/>
              <p:nvPr/>
            </p:nvSpPr>
            <p:spPr>
              <a:xfrm>
                <a:off x="6192720" y="3679560"/>
                <a:ext cx="181080" cy="2523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08920" y="3742560"/>
                <a:ext cx="14796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08920" y="3700080"/>
                <a:ext cx="147960" cy="21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3889080" y="2909880"/>
              <a:ext cx="863640" cy="72036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930480" y="3471840"/>
              <a:ext cx="150840" cy="229320"/>
              <a:chOff x="3930480" y="3471840"/>
              <a:chExt cx="150840" cy="229320"/>
            </a:xfrm>
          </p:grpSpPr>
          <p:sp>
            <p:nvSpPr>
              <p:cNvPr id="420" name=""/>
              <p:cNvSpPr/>
              <p:nvPr/>
            </p:nvSpPr>
            <p:spPr>
              <a:xfrm>
                <a:off x="3930480" y="3471840"/>
                <a:ext cx="150840" cy="18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54240" y="3598560"/>
                <a:ext cx="104760" cy="10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41640" y="3482640"/>
                <a:ext cx="127080" cy="2340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941640" y="3609360"/>
                <a:ext cx="12708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41640" y="3563640"/>
                <a:ext cx="127080" cy="2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4560840" y="3486240"/>
              <a:ext cx="150840" cy="229680"/>
              <a:chOff x="4560840" y="3486240"/>
              <a:chExt cx="150840" cy="229680"/>
            </a:xfrm>
          </p:grpSpPr>
          <p:sp>
            <p:nvSpPr>
              <p:cNvPr id="426" name=""/>
              <p:cNvSpPr/>
              <p:nvPr/>
            </p:nvSpPr>
            <p:spPr>
              <a:xfrm>
                <a:off x="4560840" y="3486240"/>
                <a:ext cx="150840" cy="183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84240" y="3612600"/>
                <a:ext cx="104760" cy="10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72360" y="349776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72360" y="362412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72360" y="3578040"/>
                <a:ext cx="127440" cy="2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3944880" y="3355920"/>
              <a:ext cx="12204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74880" y="3500280"/>
              <a:ext cx="127080" cy="219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74880" y="3355920"/>
              <a:ext cx="122400" cy="144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89080" y="2637000"/>
              <a:ext cx="863640" cy="286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68720" y="2752560"/>
              <a:ext cx="506160" cy="718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4880" y="2752560"/>
              <a:ext cx="752400" cy="60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4182000">
              <a:off x="3692520" y="3175560"/>
              <a:ext cx="122040" cy="555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17418000">
              <a:off x="4823640" y="3175560"/>
              <a:ext cx="122040" cy="555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4182000">
              <a:off x="3493080" y="3246840"/>
              <a:ext cx="121680" cy="5558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12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7418000">
              <a:off x="5060880" y="3269160"/>
              <a:ext cx="121680" cy="5554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12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3697200" y="3311280"/>
              <a:ext cx="260640" cy="209160"/>
              <a:chOff x="3697200" y="3311280"/>
              <a:chExt cx="260640" cy="209160"/>
            </a:xfrm>
          </p:grpSpPr>
          <p:sp>
            <p:nvSpPr>
              <p:cNvPr id="442" name=""/>
              <p:cNvSpPr/>
              <p:nvPr/>
            </p:nvSpPr>
            <p:spPr>
              <a:xfrm rot="4054800">
                <a:off x="3768840" y="3323880"/>
                <a:ext cx="15048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4054800">
                <a:off x="3712320" y="3397680"/>
                <a:ext cx="10440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4054800">
                <a:off x="3844080" y="3376800"/>
                <a:ext cx="1267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4054800">
                <a:off x="3727080" y="3424680"/>
                <a:ext cx="1267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4054800">
                <a:off x="3769200" y="3407760"/>
                <a:ext cx="1267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682160" y="3311280"/>
              <a:ext cx="261000" cy="209160"/>
              <a:chOff x="4682160" y="3311280"/>
              <a:chExt cx="261000" cy="209160"/>
            </a:xfrm>
          </p:grpSpPr>
          <p:sp>
            <p:nvSpPr>
              <p:cNvPr id="448" name=""/>
              <p:cNvSpPr/>
              <p:nvPr/>
            </p:nvSpPr>
            <p:spPr>
              <a:xfrm flipH="1" rot="17545200">
                <a:off x="4719960" y="3323520"/>
                <a:ext cx="15012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rot="17545200">
                <a:off x="4822920" y="3397320"/>
                <a:ext cx="104400" cy="10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rot="17545200">
                <a:off x="4668480" y="3376440"/>
                <a:ext cx="1267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rot="17545200">
                <a:off x="4786560" y="3424680"/>
                <a:ext cx="1267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rot="17545200">
                <a:off x="4743360" y="3407400"/>
                <a:ext cx="1267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655640" y="4111560"/>
              <a:ext cx="468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28720" y="4076640"/>
              <a:ext cx="323640" cy="72720"/>
            </a:xfrm>
            <a:custGeom>
              <a:avLst/>
              <a:gdLst>
                <a:gd name="textAreaLeft" fmla="*/ 70920 w 323640"/>
                <a:gd name="textAreaRight" fmla="*/ 252720 w 323640"/>
                <a:gd name="textAreaTop" fmla="*/ 15840 h 72720"/>
                <a:gd name="textAreaBottom" fmla="*/ 56880 h 7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1728720" y="4579920"/>
              <a:ext cx="323640" cy="144000"/>
            </a:xfrm>
            <a:custGeom>
              <a:avLst/>
              <a:gdLst>
                <a:gd name="textAreaLeft" fmla="*/ 70920 w 323640"/>
                <a:gd name="textAreaRight" fmla="*/ 252720 w 323640"/>
                <a:gd name="textAreaTop" fmla="*/ 31680 h 144000"/>
                <a:gd name="textAreaBottom" fmla="*/ 112320 h 14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53080" y="4076640"/>
              <a:ext cx="468360" cy="50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61080" y="4184640"/>
              <a:ext cx="468360" cy="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61080" y="4400640"/>
              <a:ext cx="468360" cy="7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214000" y="501660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37840" y="5013360"/>
            <a:ext cx="7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52360" y="5013360"/>
            <a:ext cx="75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52720" y="501336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0720" y="278136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59236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6400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511164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012000" y="4724280"/>
            <a:ext cx="0" cy="32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959280" y="3787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0" y="3787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527280" y="3429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040360" y="3429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924360" y="346392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0" y="3500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16360" y="33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751280" y="33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6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2560" y="1305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osition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all pouches into position, ensuring that belt passes through BOTH belt loops on the reverse of the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050920" y="1952640"/>
            <a:ext cx="6481800" cy="4724280"/>
            <a:chOff x="2050920" y="1952640"/>
            <a:chExt cx="6481800" cy="4724280"/>
          </a:xfrm>
        </p:grpSpPr>
        <p:sp>
          <p:nvSpPr>
            <p:cNvPr id="482" name=""/>
            <p:cNvSpPr/>
            <p:nvPr/>
          </p:nvSpPr>
          <p:spPr>
            <a:xfrm>
              <a:off x="378000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75240" y="460512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2240" y="463212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29240" y="471312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2924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0120" y="460512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47120" y="463212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7412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700000">
              <a:off x="6091560" y="342828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2700000">
              <a:off x="5739120" y="407052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rot="18900000">
              <a:off x="7895880" y="352728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rot="18900000">
              <a:off x="8145720" y="397080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02240" y="352260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48320" y="376236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4560" y="354492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24560" y="378288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24560" y="369720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7648560" y="3549600"/>
              <a:ext cx="297000" cy="433080"/>
              <a:chOff x="7648560" y="3549600"/>
              <a:chExt cx="297000" cy="433080"/>
            </a:xfrm>
          </p:grpSpPr>
          <p:sp>
            <p:nvSpPr>
              <p:cNvPr id="500" name=""/>
              <p:cNvSpPr/>
              <p:nvPr/>
            </p:nvSpPr>
            <p:spPr>
              <a:xfrm>
                <a:off x="7648560" y="354960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94640" y="378792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71600" y="357120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71600" y="380988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71600" y="37231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429240" y="330516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74120" y="357660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74120" y="330516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73680" y="217008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21600" y="246672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21600" y="195264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217008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29240" y="381960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74120" y="379404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11640" y="462888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037040" y="3679560"/>
              <a:ext cx="223920" cy="1076400"/>
              <a:chOff x="4037040" y="3679560"/>
              <a:chExt cx="223920" cy="107640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4037040" y="3679560"/>
                <a:ext cx="22392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4037040" y="4702680"/>
                <a:ext cx="22392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37040" y="3679560"/>
                <a:ext cx="22392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4037040" y="3679560"/>
                <a:ext cx="22392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4621320" y="3679560"/>
              <a:ext cx="225360" cy="1076400"/>
              <a:chOff x="4621320" y="3679560"/>
              <a:chExt cx="225360" cy="107640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4621320" y="367956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4621320" y="470268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21320" y="367956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4621320" y="367956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 flipV="1">
              <a:off x="4649760" y="370440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91040" y="3986280"/>
              <a:ext cx="112680" cy="76968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769680"/>
                <a:gd name="textAreaBottom" fmla="*/ 764280 h 769680"/>
              </a:gdLst>
              <a:ahLst/>
              <a:rect l="textAreaLeft" t="textAreaTop" r="textAreaRight" b="textAreaBottom"/>
              <a:pathLst>
                <a:path w="21600" h="147141">
                  <a:moveTo>
                    <a:pt x="3600" y="0"/>
                  </a:moveTo>
                  <a:arcTo wR="3600" hR="3600" stAng="16200000" swAng="-5400000"/>
                  <a:lnTo>
                    <a:pt x="0" y="143541"/>
                  </a:lnTo>
                  <a:arcTo wR="3600" hR="3600" stAng="10800000" swAng="-5400000"/>
                  <a:lnTo>
                    <a:pt x="18000" y="1471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21320" y="473076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51200" y="562608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4064040" y="3704400"/>
              <a:ext cx="16812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37040" y="4730760"/>
              <a:ext cx="22392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65480" y="562608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78200" y="3986280"/>
              <a:ext cx="113040" cy="76968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69680"/>
                <a:gd name="textAreaBottom" fmla="*/ 764280 h 769680"/>
              </a:gdLst>
              <a:ahLst/>
              <a:rect l="textAreaLeft" t="textAreaTop" r="textAreaRight" b="textAreaBottom"/>
              <a:pathLst>
                <a:path w="21600" h="146674">
                  <a:moveTo>
                    <a:pt x="3600" y="0"/>
                  </a:moveTo>
                  <a:arcTo wR="3600" hR="3600" stAng="16200000" swAng="-5400000"/>
                  <a:lnTo>
                    <a:pt x="0" y="143074"/>
                  </a:lnTo>
                  <a:arcTo wR="3600" hR="3600" stAng="10800000" swAng="-5400000"/>
                  <a:lnTo>
                    <a:pt x="18000" y="1466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68360" y="476712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3478320" y="3962160"/>
              <a:ext cx="558720" cy="614520"/>
              <a:chOff x="3478320" y="3962160"/>
              <a:chExt cx="558720" cy="614520"/>
            </a:xfrm>
          </p:grpSpPr>
          <p:sp>
            <p:nvSpPr>
              <p:cNvPr id="535" name=""/>
              <p:cNvSpPr/>
              <p:nvPr/>
            </p:nvSpPr>
            <p:spPr>
              <a:xfrm>
                <a:off x="3478320" y="396216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528360" y="411552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28360" y="401256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842000" y="3968640"/>
              <a:ext cx="558720" cy="614520"/>
              <a:chOff x="4842000" y="3968640"/>
              <a:chExt cx="558720" cy="614520"/>
            </a:xfrm>
          </p:grpSpPr>
          <p:sp>
            <p:nvSpPr>
              <p:cNvPr id="539" name=""/>
              <p:cNvSpPr/>
              <p:nvPr/>
            </p:nvSpPr>
            <p:spPr>
              <a:xfrm>
                <a:off x="4842000" y="396864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92040" y="412200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92040" y="401904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 flipH="1">
              <a:off x="8236080" y="475776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50920" y="476064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8436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956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08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3829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68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5600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508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32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6400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8800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134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374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89960" y="471312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689960" y="471312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5964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8508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08720" y="483228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32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5672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6360" y="483228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3591000" y="4475160"/>
              <a:ext cx="334800" cy="2047680"/>
              <a:chOff x="3591000" y="4475160"/>
              <a:chExt cx="334800" cy="2047680"/>
            </a:xfrm>
          </p:grpSpPr>
          <p:sp>
            <p:nvSpPr>
              <p:cNvPr id="565" name=""/>
              <p:cNvSpPr/>
              <p:nvPr/>
            </p:nvSpPr>
            <p:spPr>
              <a:xfrm>
                <a:off x="3591000" y="447516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91000" y="447516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591000" y="47307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3591000" y="46792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591000" y="56530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3591000" y="56016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3591000" y="64713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591000" y="473076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591000" y="56530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591000" y="447516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954680" y="4481280"/>
              <a:ext cx="334800" cy="2048040"/>
              <a:chOff x="4954680" y="4481280"/>
              <a:chExt cx="334800" cy="2048040"/>
            </a:xfrm>
          </p:grpSpPr>
          <p:sp>
            <p:nvSpPr>
              <p:cNvPr id="576" name=""/>
              <p:cNvSpPr/>
              <p:nvPr/>
            </p:nvSpPr>
            <p:spPr>
              <a:xfrm>
                <a:off x="4954680" y="448128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54680" y="448128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954680" y="47368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954680" y="46854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954680" y="56592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954680" y="56077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4954680" y="64778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54680" y="47368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954680" y="56592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4680" y="448128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 txBox="1"/>
          <p:nvPr/>
        </p:nvSpPr>
        <p:spPr>
          <a:xfrm>
            <a:off x="6480000" y="396864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740720" y="396864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156360" y="37893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64360" y="3824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90" name=""/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hat is PL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istory of P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LC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omplete Webbing set &amp; component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etting up web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urther Webb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Fixing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belt locator pins into b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50920" y="1665360"/>
            <a:ext cx="6481800" cy="4724280"/>
            <a:chOff x="2050920" y="1665360"/>
            <a:chExt cx="6481800" cy="4724280"/>
          </a:xfrm>
        </p:grpSpPr>
        <p:sp>
          <p:nvSpPr>
            <p:cNvPr id="596" name=""/>
            <p:cNvSpPr/>
            <p:nvPr/>
          </p:nvSpPr>
          <p:spPr>
            <a:xfrm>
              <a:off x="378000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75240" y="431784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02240" y="434484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29240" y="442584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2924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0120" y="431784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47120" y="434484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7412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700000">
              <a:off x="6091560" y="314100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0000">
              <a:off x="5739120" y="378324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rot="18900000">
              <a:off x="7895880" y="324000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rot="18900000">
              <a:off x="8145720" y="368352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2240" y="323532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48320" y="347508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24560" y="325764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24560" y="349560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24560" y="340992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7648560" y="3262320"/>
              <a:ext cx="297000" cy="433080"/>
              <a:chOff x="7648560" y="3262320"/>
              <a:chExt cx="297000" cy="433080"/>
            </a:xfrm>
          </p:grpSpPr>
          <p:sp>
            <p:nvSpPr>
              <p:cNvPr id="614" name=""/>
              <p:cNvSpPr/>
              <p:nvPr/>
            </p:nvSpPr>
            <p:spPr>
              <a:xfrm>
                <a:off x="7648560" y="326232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94640" y="350064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671600" y="32839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671600" y="352260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71600" y="343584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429240" y="301788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74120" y="328932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74120" y="301788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73680" y="188280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1600" y="217944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21600" y="166536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29240" y="188280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29240" y="353232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74120" y="350676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11640" y="434160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621320" y="3392280"/>
              <a:ext cx="225360" cy="1076400"/>
              <a:chOff x="4621320" y="3392280"/>
              <a:chExt cx="225360" cy="1076400"/>
            </a:xfrm>
          </p:grpSpPr>
          <p:sp>
            <p:nvSpPr>
              <p:cNvPr id="630" name=""/>
              <p:cNvSpPr/>
              <p:nvPr/>
            </p:nvSpPr>
            <p:spPr>
              <a:xfrm flipV="1">
                <a:off x="4621320" y="339228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4621320" y="441540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21320" y="339228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4621320" y="339228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V="1">
              <a:off x="4649760" y="341712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21320" y="444348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51200" y="533880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68360" y="447984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3478320" y="3674880"/>
              <a:ext cx="558720" cy="614520"/>
              <a:chOff x="3478320" y="3674880"/>
              <a:chExt cx="558720" cy="614520"/>
            </a:xfrm>
          </p:grpSpPr>
          <p:sp>
            <p:nvSpPr>
              <p:cNvPr id="639" name=""/>
              <p:cNvSpPr/>
              <p:nvPr/>
            </p:nvSpPr>
            <p:spPr>
              <a:xfrm>
                <a:off x="3478320" y="367488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528360" y="382824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528360" y="372528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842000" y="3681360"/>
              <a:ext cx="558720" cy="614520"/>
              <a:chOff x="4842000" y="3681360"/>
              <a:chExt cx="558720" cy="614520"/>
            </a:xfrm>
          </p:grpSpPr>
          <p:sp>
            <p:nvSpPr>
              <p:cNvPr id="643" name=""/>
              <p:cNvSpPr/>
              <p:nvPr/>
            </p:nvSpPr>
            <p:spPr>
              <a:xfrm>
                <a:off x="4842000" y="368136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92040" y="383472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92040" y="373176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 flipH="1">
              <a:off x="8236080" y="447048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50920" y="447336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48436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0956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08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829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5600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32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6400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8800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134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374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89960" y="442584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89960" y="442584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65964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8508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08720" y="454500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27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5672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6360" y="454500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591000" y="4187880"/>
              <a:ext cx="334800" cy="2047680"/>
              <a:chOff x="3591000" y="4187880"/>
              <a:chExt cx="334800" cy="2047680"/>
            </a:xfrm>
          </p:grpSpPr>
          <p:sp>
            <p:nvSpPr>
              <p:cNvPr id="667" name=""/>
              <p:cNvSpPr/>
              <p:nvPr/>
            </p:nvSpPr>
            <p:spPr>
              <a:xfrm>
                <a:off x="3591000" y="418788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91000" y="418788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591000" y="44434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3591000" y="43920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91000" y="53658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591000" y="53143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3591000" y="61840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91000" y="444348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91000" y="53658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91000" y="418788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4954680" y="4194000"/>
              <a:ext cx="334800" cy="2048040"/>
              <a:chOff x="4954680" y="4194000"/>
              <a:chExt cx="334800" cy="2048040"/>
            </a:xfrm>
          </p:grpSpPr>
          <p:sp>
            <p:nvSpPr>
              <p:cNvPr id="678" name=""/>
              <p:cNvSpPr/>
              <p:nvPr/>
            </p:nvSpPr>
            <p:spPr>
              <a:xfrm>
                <a:off x="4954680" y="419400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954680" y="419400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54680" y="44496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4954680" y="43981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954680" y="53719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4954680" y="53204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4954680" y="61905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54680" y="44496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54680" y="53719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54680" y="419400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4678200" y="4386240"/>
              <a:ext cx="113040" cy="77004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70040"/>
                <a:gd name="textAreaBottom" fmla="*/ 764640 h 770040"/>
              </a:gdLst>
              <a:ahLst/>
              <a:rect l="textAreaLeft" t="textAreaTop" r="textAreaRight" b="textAreaBottom"/>
              <a:pathLst>
                <a:path w="21600" h="146743">
                  <a:moveTo>
                    <a:pt x="3600" y="0"/>
                  </a:moveTo>
                  <a:arcTo wR="3600" hR="3600" stAng="16200000" swAng="-5400000"/>
                  <a:lnTo>
                    <a:pt x="0" y="143143"/>
                  </a:lnTo>
                  <a:arcTo wR="3600" hR="3600" stAng="10800000" swAng="-5400000"/>
                  <a:lnTo>
                    <a:pt x="18000" y="1467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5080" y="4545000"/>
              <a:ext cx="179280" cy="684000"/>
            </a:xfrm>
            <a:prstGeom prst="rect">
              <a:avLst/>
            </a:prstGeom>
            <a:gradFill rotWithShape="0">
              <a:gsLst>
                <a:gs pos="0">
                  <a:srgbClr val="385500"/>
                </a:gs>
                <a:gs pos="50000">
                  <a:srgbClr val="669900"/>
                </a:gs>
                <a:gs pos="100000">
                  <a:srgbClr val="385500"/>
                </a:gs>
              </a:gsLst>
              <a:lin ang="10800000"/>
            </a:gra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4067280" y="3392280"/>
              <a:ext cx="225360" cy="1076400"/>
              <a:chOff x="4067280" y="3392280"/>
              <a:chExt cx="225360" cy="1076400"/>
            </a:xfrm>
          </p:grpSpPr>
          <p:sp>
            <p:nvSpPr>
              <p:cNvPr id="691" name=""/>
              <p:cNvSpPr/>
              <p:nvPr/>
            </p:nvSpPr>
            <p:spPr>
              <a:xfrm flipV="1">
                <a:off x="4067280" y="3392280"/>
                <a:ext cx="225360" cy="10764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4067280" y="4415400"/>
                <a:ext cx="225360" cy="532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67280" y="3392280"/>
                <a:ext cx="225360" cy="266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4067280" y="3392280"/>
                <a:ext cx="225360" cy="107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V="1">
              <a:off x="4095720" y="3417120"/>
              <a:ext cx="16848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67280" y="4443480"/>
              <a:ext cx="22536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97160" y="5338800"/>
              <a:ext cx="16704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24160" y="4386240"/>
              <a:ext cx="113040" cy="770040"/>
            </a:xfrm>
            <a:custGeom>
              <a:avLst/>
              <a:gdLst>
                <a:gd name="textAreaLeft" fmla="*/ 5400 w 113040"/>
                <a:gd name="textAreaRight" fmla="*/ 107640 w 113040"/>
                <a:gd name="textAreaTop" fmla="*/ 5400 h 770040"/>
                <a:gd name="textAreaBottom" fmla="*/ 764640 h 770040"/>
              </a:gdLst>
              <a:ahLst/>
              <a:rect l="textAreaLeft" t="textAreaTop" r="textAreaRight" b="textAreaBottom"/>
              <a:pathLst>
                <a:path w="21600" h="146743">
                  <a:moveTo>
                    <a:pt x="3600" y="0"/>
                  </a:moveTo>
                  <a:arcTo wR="3600" hR="3600" stAng="16200000" swAng="-5400000"/>
                  <a:lnTo>
                    <a:pt x="0" y="143143"/>
                  </a:lnTo>
                  <a:arcTo wR="3600" hR="3600" stAng="10800000" swAng="-5400000"/>
                  <a:lnTo>
                    <a:pt x="18000" y="1467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24242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91040" y="4545000"/>
              <a:ext cx="179280" cy="684000"/>
            </a:xfrm>
            <a:prstGeom prst="rect">
              <a:avLst/>
            </a:prstGeom>
            <a:gradFill rotWithShape="0">
              <a:gsLst>
                <a:gs pos="0">
                  <a:srgbClr val="385500"/>
                </a:gs>
                <a:gs pos="50000">
                  <a:srgbClr val="669900"/>
                </a:gs>
                <a:gs pos="100000">
                  <a:srgbClr val="385500"/>
                </a:gs>
              </a:gsLst>
              <a:lin ang="10800000"/>
            </a:gra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 txBox="1"/>
          <p:nvPr/>
        </p:nvSpPr>
        <p:spPr>
          <a:xfrm>
            <a:off x="6480000" y="3679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740720" y="36799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156360" y="3500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8064360" y="35352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0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Fixing pou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webbing loops over locator pins and fasten down using stu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process on each p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050920" y="1916280"/>
            <a:ext cx="6481800" cy="4724280"/>
            <a:chOff x="2050920" y="1916280"/>
            <a:chExt cx="6481800" cy="4724280"/>
          </a:xfrm>
        </p:grpSpPr>
        <p:sp>
          <p:nvSpPr>
            <p:cNvPr id="710" name=""/>
            <p:cNvSpPr/>
            <p:nvPr/>
          </p:nvSpPr>
          <p:spPr>
            <a:xfrm>
              <a:off x="378000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375240" y="456876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02240" y="4595760"/>
              <a:ext cx="28908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29240" y="467676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2924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0120" y="4568760"/>
              <a:ext cx="352440" cy="10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47120" y="4595760"/>
              <a:ext cx="288720" cy="52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7412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700000">
              <a:off x="6091560" y="3391920"/>
              <a:ext cx="243000" cy="920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700000">
              <a:off x="5739120" y="4034160"/>
              <a:ext cx="247680" cy="32544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8900000">
              <a:off x="7895880" y="3490920"/>
              <a:ext cx="243000" cy="614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rot="18900000">
              <a:off x="8145720" y="3934440"/>
              <a:ext cx="247320" cy="2178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02240" y="3486240"/>
              <a:ext cx="297000" cy="34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48320" y="3726000"/>
              <a:ext cx="206640" cy="19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24560" y="3508560"/>
              <a:ext cx="252360" cy="42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24560" y="374652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24560" y="3660840"/>
              <a:ext cx="25236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7648560" y="3513240"/>
              <a:ext cx="297000" cy="433080"/>
              <a:chOff x="7648560" y="3513240"/>
              <a:chExt cx="297000" cy="433080"/>
            </a:xfrm>
          </p:grpSpPr>
          <p:sp>
            <p:nvSpPr>
              <p:cNvPr id="728" name=""/>
              <p:cNvSpPr/>
              <p:nvPr/>
            </p:nvSpPr>
            <p:spPr>
              <a:xfrm>
                <a:off x="7648560" y="3513240"/>
                <a:ext cx="297000" cy="34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94640" y="3751560"/>
                <a:ext cx="206280" cy="19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71600" y="353484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71600" y="377352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71600" y="3686760"/>
                <a:ext cx="250560" cy="42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6429240" y="3268800"/>
              <a:ext cx="244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74120" y="3540240"/>
              <a:ext cx="252360" cy="428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74120" y="3268800"/>
              <a:ext cx="244440" cy="271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73680" y="2133720"/>
              <a:ext cx="1000440" cy="1352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21600" y="2430360"/>
              <a:ext cx="1704960" cy="1352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21600" y="1916280"/>
              <a:ext cx="1704960" cy="541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29240" y="2133720"/>
              <a:ext cx="1489320" cy="113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29240" y="3783240"/>
              <a:ext cx="244440" cy="84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674120" y="3757680"/>
              <a:ext cx="244440" cy="866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311640" y="4592520"/>
              <a:ext cx="2232000" cy="20480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37040" y="4694400"/>
              <a:ext cx="223920" cy="107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65480" y="558972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68360" y="4730760"/>
              <a:ext cx="6000840" cy="82080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3478320" y="3925800"/>
              <a:ext cx="558720" cy="614520"/>
              <a:chOff x="3478320" y="3925800"/>
              <a:chExt cx="558720" cy="614520"/>
            </a:xfrm>
          </p:grpSpPr>
          <p:sp>
            <p:nvSpPr>
              <p:cNvPr id="747" name=""/>
              <p:cNvSpPr/>
              <p:nvPr/>
            </p:nvSpPr>
            <p:spPr>
              <a:xfrm>
                <a:off x="3478320" y="392580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528360" y="407916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528360" y="397620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4842000" y="3932280"/>
              <a:ext cx="558720" cy="614520"/>
              <a:chOff x="4842000" y="3932280"/>
              <a:chExt cx="558720" cy="614520"/>
            </a:xfrm>
          </p:grpSpPr>
          <p:sp>
            <p:nvSpPr>
              <p:cNvPr id="751" name=""/>
              <p:cNvSpPr/>
              <p:nvPr/>
            </p:nvSpPr>
            <p:spPr>
              <a:xfrm>
                <a:off x="4842000" y="3932280"/>
                <a:ext cx="558720" cy="614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646464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892040" y="4085640"/>
                <a:ext cx="456840" cy="410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892040" y="3982680"/>
                <a:ext cx="456840" cy="51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 flipH="1">
              <a:off x="8236080" y="4721400"/>
              <a:ext cx="296640" cy="8301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50920" y="4724280"/>
              <a:ext cx="252720" cy="83052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8436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956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08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829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68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35600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32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6400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8800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134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374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89960" y="4676760"/>
              <a:ext cx="244440" cy="28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689960" y="4676760"/>
              <a:ext cx="244440" cy="54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5964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98508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8720" y="4795920"/>
              <a:ext cx="17964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32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5672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16360" y="4795920"/>
              <a:ext cx="17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3591000" y="4438800"/>
              <a:ext cx="334800" cy="2047680"/>
              <a:chOff x="3591000" y="4438800"/>
              <a:chExt cx="334800" cy="2047680"/>
            </a:xfrm>
          </p:grpSpPr>
          <p:sp>
            <p:nvSpPr>
              <p:cNvPr id="776" name=""/>
              <p:cNvSpPr/>
              <p:nvPr/>
            </p:nvSpPr>
            <p:spPr>
              <a:xfrm>
                <a:off x="3591000" y="4438800"/>
                <a:ext cx="334800" cy="20476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591000" y="4438800"/>
                <a:ext cx="334800" cy="1015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91000" y="46944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3591000" y="46429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91000" y="56167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3591000" y="55652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3591000" y="643500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591000" y="469440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591000" y="56167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591000" y="4438800"/>
                <a:ext cx="334800" cy="20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954680" y="4444920"/>
              <a:ext cx="334800" cy="2048040"/>
              <a:chOff x="4954680" y="4444920"/>
              <a:chExt cx="334800" cy="2048040"/>
            </a:xfrm>
          </p:grpSpPr>
          <p:sp>
            <p:nvSpPr>
              <p:cNvPr id="787" name=""/>
              <p:cNvSpPr/>
              <p:nvPr/>
            </p:nvSpPr>
            <p:spPr>
              <a:xfrm>
                <a:off x="4954680" y="4444920"/>
                <a:ext cx="334800" cy="20480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954680" y="4444920"/>
                <a:ext cx="334800" cy="10188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54680" y="470052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4954680" y="46490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954680" y="562284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4954680" y="557136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4954680" y="6441480"/>
                <a:ext cx="334800" cy="5076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54680" y="470052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954680" y="5622840"/>
                <a:ext cx="33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954680" y="4444920"/>
                <a:ext cx="334800" cy="20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4037040" y="4756320"/>
              <a:ext cx="223920" cy="1047600"/>
              <a:chOff x="4037040" y="4756320"/>
              <a:chExt cx="223920" cy="1047600"/>
            </a:xfrm>
          </p:grpSpPr>
          <p:sp>
            <p:nvSpPr>
              <p:cNvPr id="798" name=""/>
              <p:cNvSpPr/>
              <p:nvPr/>
            </p:nvSpPr>
            <p:spPr>
              <a:xfrm>
                <a:off x="4037040" y="4756320"/>
                <a:ext cx="223920" cy="1047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037040" y="4756320"/>
                <a:ext cx="223920" cy="518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037040" y="5778000"/>
                <a:ext cx="223920" cy="25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037040" y="4756320"/>
                <a:ext cx="223920" cy="10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 flipV="1">
              <a:off x="4067280" y="5587200"/>
              <a:ext cx="168120" cy="15732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635360" y="4687920"/>
              <a:ext cx="223920" cy="107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64160" y="5583240"/>
              <a:ext cx="166680" cy="15408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667400" y="4789440"/>
              <a:ext cx="17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4635360" y="4749840"/>
              <a:ext cx="223920" cy="1047600"/>
              <a:chOff x="4635360" y="4749840"/>
              <a:chExt cx="223920" cy="1047600"/>
            </a:xfrm>
          </p:grpSpPr>
          <p:sp>
            <p:nvSpPr>
              <p:cNvPr id="807" name=""/>
              <p:cNvSpPr/>
              <p:nvPr/>
            </p:nvSpPr>
            <p:spPr>
              <a:xfrm>
                <a:off x="4635360" y="4749840"/>
                <a:ext cx="223920" cy="1047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35360" y="4749840"/>
                <a:ext cx="223920" cy="5184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4635360" y="5771520"/>
                <a:ext cx="223920" cy="25920"/>
              </a:xfrm>
              <a:prstGeom prst="rect">
                <a:avLst/>
              </a:prstGeom>
              <a:gradFill rotWithShape="0">
                <a:gsLst>
                  <a:gs pos="0">
                    <a:srgbClr val="336600"/>
                  </a:gs>
                  <a:gs pos="100000">
                    <a:srgbClr val="008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35360" y="4749840"/>
                <a:ext cx="223920" cy="1047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 flipV="1">
              <a:off x="4665600" y="5581800"/>
              <a:ext cx="168480" cy="156960"/>
            </a:xfrm>
            <a:prstGeom prst="ellipse">
              <a:avLst/>
            </a:prstGeom>
            <a:gradFill rotWithShape="0">
              <a:gsLst>
                <a:gs pos="0">
                  <a:srgbClr val="42424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 txBox="1"/>
          <p:nvPr/>
        </p:nvSpPr>
        <p:spPr>
          <a:xfrm>
            <a:off x="6480000" y="38955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7740720" y="389556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156360" y="3716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064360" y="37512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816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V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Completing y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2 through the ‘A’ clip closest to the Yo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this back through ladder lock buckl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19280" y="540540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421160" y="532440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433760" y="5337000"/>
            <a:ext cx="144720" cy="2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448160" y="537840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448160" y="537840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448160" y="575388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448160" y="537840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041800" y="532440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056200" y="5337000"/>
            <a:ext cx="144360" cy="2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070600" y="537840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070600" y="537840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070600" y="575388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070600" y="537840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448160" y="479592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070600" y="479592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780000" y="522756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736720" y="522756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3200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77164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92720" y="522756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157800" y="522756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55308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192720" y="522756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7164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13200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80000" y="522756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92720" y="522756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9272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553080" y="522756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916360" y="537228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76720" y="537228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33888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9780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6872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581800" y="5337000"/>
            <a:ext cx="34920" cy="54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770200" y="4940280"/>
            <a:ext cx="181080" cy="252360"/>
            <a:chOff x="2770200" y="4940280"/>
            <a:chExt cx="181080" cy="252360"/>
          </a:xfrm>
        </p:grpSpPr>
        <p:sp>
          <p:nvSpPr>
            <p:cNvPr id="857" name=""/>
            <p:cNvSpPr/>
            <p:nvPr/>
          </p:nvSpPr>
          <p:spPr>
            <a:xfrm>
              <a:off x="277020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8640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78640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3274920" y="4940280"/>
            <a:ext cx="181080" cy="252360"/>
            <a:chOff x="3274920" y="4940280"/>
            <a:chExt cx="181080" cy="252360"/>
          </a:xfrm>
        </p:grpSpPr>
        <p:sp>
          <p:nvSpPr>
            <p:cNvPr id="861" name=""/>
            <p:cNvSpPr/>
            <p:nvPr/>
          </p:nvSpPr>
          <p:spPr>
            <a:xfrm>
              <a:off x="327492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9112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112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6191280" y="4940280"/>
            <a:ext cx="181080" cy="252360"/>
            <a:chOff x="6191280" y="4940280"/>
            <a:chExt cx="181080" cy="252360"/>
          </a:xfrm>
        </p:grpSpPr>
        <p:sp>
          <p:nvSpPr>
            <p:cNvPr id="865" name=""/>
            <p:cNvSpPr/>
            <p:nvPr/>
          </p:nvSpPr>
          <p:spPr>
            <a:xfrm>
              <a:off x="619128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0748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0748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696000" y="4940280"/>
            <a:ext cx="181080" cy="252360"/>
            <a:chOff x="6696000" y="4940280"/>
            <a:chExt cx="181080" cy="252360"/>
          </a:xfrm>
        </p:grpSpPr>
        <p:sp>
          <p:nvSpPr>
            <p:cNvPr id="869" name=""/>
            <p:cNvSpPr/>
            <p:nvPr/>
          </p:nvSpPr>
          <p:spPr>
            <a:xfrm>
              <a:off x="6696000" y="494028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712200" y="500328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712200" y="496080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4392720" y="4170240"/>
            <a:ext cx="863640" cy="7207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433760" y="4732200"/>
            <a:ext cx="150840" cy="230040"/>
            <a:chOff x="4433760" y="4732200"/>
            <a:chExt cx="150840" cy="230040"/>
          </a:xfrm>
        </p:grpSpPr>
        <p:sp>
          <p:nvSpPr>
            <p:cNvPr id="874" name=""/>
            <p:cNvSpPr/>
            <p:nvPr/>
          </p:nvSpPr>
          <p:spPr>
            <a:xfrm>
              <a:off x="4433760" y="47322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57520" y="485928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44920" y="474336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444920" y="487008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44920" y="482436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064120" y="4746600"/>
            <a:ext cx="150840" cy="230040"/>
            <a:chOff x="5064120" y="4746600"/>
            <a:chExt cx="150840" cy="230040"/>
          </a:xfrm>
        </p:grpSpPr>
        <p:sp>
          <p:nvSpPr>
            <p:cNvPr id="880" name=""/>
            <p:cNvSpPr/>
            <p:nvPr/>
          </p:nvSpPr>
          <p:spPr>
            <a:xfrm>
              <a:off x="5064120" y="47466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87520" y="4873320"/>
              <a:ext cx="104760" cy="10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75640" y="4758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75640" y="48848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75640" y="483876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4448160" y="461628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8520" y="4761000"/>
            <a:ext cx="126720" cy="219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078520" y="461628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392720" y="3897360"/>
            <a:ext cx="863640" cy="28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72000" y="401328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48160" y="4013280"/>
            <a:ext cx="752400" cy="60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4182000">
            <a:off x="4196520" y="4435920"/>
            <a:ext cx="122040" cy="55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 rot="17418000">
            <a:off x="5327640" y="4436280"/>
            <a:ext cx="122040" cy="55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4200480" y="4572000"/>
            <a:ext cx="261000" cy="209520"/>
            <a:chOff x="4200480" y="4572000"/>
            <a:chExt cx="261000" cy="209520"/>
          </a:xfrm>
        </p:grpSpPr>
        <p:sp>
          <p:nvSpPr>
            <p:cNvPr id="894" name=""/>
            <p:cNvSpPr/>
            <p:nvPr/>
          </p:nvSpPr>
          <p:spPr>
            <a:xfrm rot="4054800">
              <a:off x="4272120" y="458460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4054800">
              <a:off x="4215240" y="46591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4054800">
              <a:off x="4347360" y="46378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4054800">
              <a:off x="4230000" y="46861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4054800">
              <a:off x="4272480" y="46684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185080" y="4572000"/>
            <a:ext cx="261000" cy="209880"/>
            <a:chOff x="5185080" y="4572000"/>
            <a:chExt cx="261000" cy="209880"/>
          </a:xfrm>
        </p:grpSpPr>
        <p:sp>
          <p:nvSpPr>
            <p:cNvPr id="900" name=""/>
            <p:cNvSpPr/>
            <p:nvPr/>
          </p:nvSpPr>
          <p:spPr>
            <a:xfrm flipH="1" rot="17545200">
              <a:off x="5222880" y="45846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rot="17545200">
              <a:off x="5325480" y="4658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rot="17545200">
              <a:off x="5171760" y="4637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rot="17545200">
              <a:off x="5288760" y="4685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rot="17545200">
              <a:off x="5246640" y="46684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158920" y="537228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232000" y="5337000"/>
            <a:ext cx="324000" cy="7308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3080"/>
              <a:gd name="textAreaBottom" fmla="*/ 572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232000" y="584028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056360" y="5337000"/>
            <a:ext cx="46836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164360" y="544500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164360" y="566100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464000" y="5049720"/>
            <a:ext cx="716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075280" y="5049720"/>
            <a:ext cx="712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284720" y="44737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292720" y="447372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464000" y="476100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5076720" y="476100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17" name=""/>
          <p:cNvSpPr/>
          <p:nvPr/>
        </p:nvSpPr>
        <p:spPr>
          <a:xfrm>
            <a:off x="3311640" y="4616280"/>
            <a:ext cx="1220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rot="648000">
            <a:off x="3343320" y="4381560"/>
            <a:ext cx="108000" cy="269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rot="5083800">
            <a:off x="3458160" y="4274280"/>
            <a:ext cx="1220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rot="20205000">
            <a:off x="3634920" y="4365720"/>
            <a:ext cx="128520" cy="412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rot="16962600">
            <a:off x="3834360" y="4632840"/>
            <a:ext cx="12240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570280" y="4351680"/>
            <a:ext cx="765000" cy="569520"/>
            <a:chOff x="5570280" y="4351680"/>
            <a:chExt cx="765000" cy="569520"/>
          </a:xfrm>
        </p:grpSpPr>
        <p:sp>
          <p:nvSpPr>
            <p:cNvPr id="923" name=""/>
            <p:cNvSpPr/>
            <p:nvPr/>
          </p:nvSpPr>
          <p:spPr>
            <a:xfrm flipH="1">
              <a:off x="6210000" y="4616280"/>
              <a:ext cx="124920" cy="304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20952000">
              <a:off x="6192360" y="4381560"/>
              <a:ext cx="110880" cy="269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16516200">
              <a:off x="6060600" y="4270320"/>
              <a:ext cx="122040" cy="31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1395000">
              <a:off x="5871240" y="4365720"/>
              <a:ext cx="131760" cy="412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4637400">
              <a:off x="5674680" y="4628880"/>
              <a:ext cx="122400" cy="312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 txBox="1"/>
          <p:nvPr/>
        </p:nvSpPr>
        <p:spPr>
          <a:xfrm>
            <a:off x="3311640" y="4653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192720" y="4653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930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I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Completing y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strap 3 through the outermost ‘A’ cl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this back through ladder lock buckle C on the y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030560" y="580068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932440" y="571968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945040" y="5732640"/>
            <a:ext cx="14472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959440" y="577368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959440" y="614916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53080" y="571968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67480" y="5732640"/>
            <a:ext cx="14436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581880" y="577368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6581880" y="614916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959440" y="519120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581880" y="519120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291280" y="562284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4800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64328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8292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804000" y="562284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66908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06436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70400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28292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64328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291280" y="562284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04000" y="562284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70400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06436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2764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78800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85016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209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58000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093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4281480" y="5335560"/>
            <a:ext cx="181080" cy="252360"/>
            <a:chOff x="4281480" y="5335560"/>
            <a:chExt cx="181080" cy="252360"/>
          </a:xfrm>
        </p:grpSpPr>
        <p:sp>
          <p:nvSpPr>
            <p:cNvPr id="971" name=""/>
            <p:cNvSpPr/>
            <p:nvPr/>
          </p:nvSpPr>
          <p:spPr>
            <a:xfrm>
              <a:off x="42814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976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976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786200" y="5335560"/>
            <a:ext cx="181080" cy="252360"/>
            <a:chOff x="4786200" y="5335560"/>
            <a:chExt cx="181080" cy="252360"/>
          </a:xfrm>
        </p:grpSpPr>
        <p:sp>
          <p:nvSpPr>
            <p:cNvPr id="975" name=""/>
            <p:cNvSpPr/>
            <p:nvPr/>
          </p:nvSpPr>
          <p:spPr>
            <a:xfrm>
              <a:off x="478620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80240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80240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7702560" y="5335560"/>
            <a:ext cx="181080" cy="252360"/>
            <a:chOff x="7702560" y="5335560"/>
            <a:chExt cx="181080" cy="252360"/>
          </a:xfrm>
        </p:grpSpPr>
        <p:sp>
          <p:nvSpPr>
            <p:cNvPr id="979" name=""/>
            <p:cNvSpPr/>
            <p:nvPr/>
          </p:nvSpPr>
          <p:spPr>
            <a:xfrm>
              <a:off x="770256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71876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71876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207280" y="5335560"/>
            <a:ext cx="181080" cy="252360"/>
            <a:chOff x="8207280" y="5335560"/>
            <a:chExt cx="181080" cy="252360"/>
          </a:xfrm>
        </p:grpSpPr>
        <p:sp>
          <p:nvSpPr>
            <p:cNvPr id="983" name=""/>
            <p:cNvSpPr/>
            <p:nvPr/>
          </p:nvSpPr>
          <p:spPr>
            <a:xfrm>
              <a:off x="82072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2234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2234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904000" y="3968640"/>
            <a:ext cx="863640" cy="1317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5945040" y="5127480"/>
            <a:ext cx="150840" cy="230040"/>
            <a:chOff x="5945040" y="5127480"/>
            <a:chExt cx="150840" cy="230040"/>
          </a:xfrm>
        </p:grpSpPr>
        <p:sp>
          <p:nvSpPr>
            <p:cNvPr id="988" name=""/>
            <p:cNvSpPr/>
            <p:nvPr/>
          </p:nvSpPr>
          <p:spPr>
            <a:xfrm>
              <a:off x="5945040" y="512748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968800" y="52545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956200" y="513864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956200" y="52653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56200" y="521964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575400" y="5141880"/>
            <a:ext cx="150840" cy="230400"/>
            <a:chOff x="6575400" y="5141880"/>
            <a:chExt cx="150840" cy="230400"/>
          </a:xfrm>
        </p:grpSpPr>
        <p:sp>
          <p:nvSpPr>
            <p:cNvPr id="994" name=""/>
            <p:cNvSpPr/>
            <p:nvPr/>
          </p:nvSpPr>
          <p:spPr>
            <a:xfrm>
              <a:off x="6575400" y="514188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598800" y="5268600"/>
              <a:ext cx="10476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586920" y="515340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586920" y="5280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86920" y="52340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959440" y="501156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589800" y="5156280"/>
            <a:ext cx="127080" cy="22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589800" y="501156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83280" y="440856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959440" y="4184640"/>
            <a:ext cx="752400" cy="82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4182000">
            <a:off x="5326560" y="4580640"/>
            <a:ext cx="109800" cy="1187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 rot="17418000">
            <a:off x="7199280" y="4478760"/>
            <a:ext cx="10188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711760" y="4895640"/>
            <a:ext cx="261000" cy="209520"/>
            <a:chOff x="5711760" y="4895640"/>
            <a:chExt cx="261000" cy="209520"/>
          </a:xfrm>
        </p:grpSpPr>
        <p:sp>
          <p:nvSpPr>
            <p:cNvPr id="1007" name=""/>
            <p:cNvSpPr/>
            <p:nvPr/>
          </p:nvSpPr>
          <p:spPr>
            <a:xfrm rot="4054800">
              <a:off x="5783400" y="490824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4054800">
              <a:off x="5726520" y="4982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4054800">
              <a:off x="5858640" y="4961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4054800">
              <a:off x="5741280" y="5009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4054800">
              <a:off x="5783760" y="499212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6696720" y="4867200"/>
            <a:ext cx="261000" cy="209880"/>
            <a:chOff x="6696720" y="4867200"/>
            <a:chExt cx="261000" cy="209880"/>
          </a:xfrm>
        </p:grpSpPr>
        <p:sp>
          <p:nvSpPr>
            <p:cNvPr id="1013" name=""/>
            <p:cNvSpPr/>
            <p:nvPr/>
          </p:nvSpPr>
          <p:spPr>
            <a:xfrm flipH="1" rot="17545200">
              <a:off x="6734520" y="48798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rot="17545200">
              <a:off x="6837120" y="49543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rot="17545200">
              <a:off x="6683400" y="49330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rot="17545200">
              <a:off x="6800400" y="49813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rot="17545200">
              <a:off x="6758280" y="49636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3670200" y="576756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743280" y="5732640"/>
            <a:ext cx="324000" cy="7272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2720"/>
              <a:gd name="textAreaBottom" fmla="*/ 568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43280" y="623556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8567640" y="573264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8675640" y="5840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675640" y="6056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335640" y="2421000"/>
            <a:ext cx="612720" cy="158256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687280" y="2422440"/>
            <a:ext cx="647640" cy="158292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688000" y="217008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88000" y="216864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rot="20999400">
            <a:off x="5904000" y="342864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 rot="600600">
            <a:off x="6443640" y="342900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rot="20999400">
            <a:off x="5761080" y="249192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 rot="600600">
            <a:off x="6588000" y="249228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796000" y="1989360"/>
            <a:ext cx="144360" cy="345960"/>
            <a:chOff x="5796000" y="1989360"/>
            <a:chExt cx="144360" cy="345960"/>
          </a:xfrm>
        </p:grpSpPr>
        <p:grpSp>
          <p:nvGrpSpPr>
            <p:cNvPr id="1033" name=""/>
            <p:cNvGrpSpPr/>
            <p:nvPr/>
          </p:nvGrpSpPr>
          <p:grpSpPr>
            <a:xfrm>
              <a:off x="5796000" y="1989360"/>
              <a:ext cx="144360" cy="230040"/>
              <a:chOff x="5796000" y="1989360"/>
              <a:chExt cx="144360" cy="2300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57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58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58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58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58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 flipV="1">
              <a:off x="58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6696000" y="1989360"/>
            <a:ext cx="144360" cy="345960"/>
            <a:chOff x="6696000" y="1989360"/>
            <a:chExt cx="144360" cy="345960"/>
          </a:xfrm>
        </p:grpSpPr>
        <p:grpSp>
          <p:nvGrpSpPr>
            <p:cNvPr id="1041" name=""/>
            <p:cNvGrpSpPr/>
            <p:nvPr/>
          </p:nvGrpSpPr>
          <p:grpSpPr>
            <a:xfrm>
              <a:off x="6696000" y="1989360"/>
              <a:ext cx="144360" cy="230040"/>
              <a:chOff x="6696000" y="1989360"/>
              <a:chExt cx="144360" cy="230040"/>
            </a:xfrm>
          </p:grpSpPr>
          <p:sp>
            <p:nvSpPr>
              <p:cNvPr id="1042" name=""/>
              <p:cNvSpPr/>
              <p:nvPr/>
            </p:nvSpPr>
            <p:spPr>
              <a:xfrm flipV="1">
                <a:off x="66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7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67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67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67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 flipV="1">
              <a:off x="67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435600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680328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5796000" y="2203560"/>
            <a:ext cx="10800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72000" y="249228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6732720" y="2205000"/>
            <a:ext cx="1076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920000" y="2421000"/>
            <a:ext cx="1080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05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together (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Testing &amp;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on web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front QR bu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dy up, and get them to tighten all ladder lock buckles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030560" y="5800680"/>
            <a:ext cx="4608720" cy="434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932440" y="5719680"/>
            <a:ext cx="17640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45040" y="5732640"/>
            <a:ext cx="14472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959440" y="5773680"/>
            <a:ext cx="1224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5959440" y="6149160"/>
            <a:ext cx="12240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959440" y="5773680"/>
            <a:ext cx="1224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553080" y="5719680"/>
            <a:ext cx="177840" cy="54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46464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567480" y="5732640"/>
            <a:ext cx="144360" cy="2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581880" y="5773680"/>
            <a:ext cx="120600" cy="190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6581880" y="6149160"/>
            <a:ext cx="122040" cy="1764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581880" y="5773680"/>
            <a:ext cx="120600" cy="3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959440" y="5191200"/>
            <a:ext cx="1224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581880" y="5191200"/>
            <a:ext cx="120600" cy="555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291280" y="5622840"/>
            <a:ext cx="576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24800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64328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28292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804000" y="5622840"/>
            <a:ext cx="57636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669080" y="5622840"/>
            <a:ext cx="755640" cy="7923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806436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704000" y="5622840"/>
            <a:ext cx="324000" cy="792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28292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64328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291280" y="5622840"/>
            <a:ext cx="576000" cy="433440"/>
          </a:xfrm>
          <a:custGeom>
            <a:avLst/>
            <a:gdLst>
              <a:gd name="textAreaLeft" fmla="*/ 126720 w 576000"/>
              <a:gd name="textAreaRight" fmla="*/ 449280 w 57600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04000" y="5622840"/>
            <a:ext cx="576360" cy="433440"/>
          </a:xfrm>
          <a:custGeom>
            <a:avLst/>
            <a:gdLst>
              <a:gd name="textAreaLeft" fmla="*/ 126720 w 576360"/>
              <a:gd name="textAreaRight" fmla="*/ 449640 w 576360"/>
              <a:gd name="textAreaTop" fmla="*/ 95040 h 433440"/>
              <a:gd name="textAreaBottom" fmla="*/ 3384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70400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064360" y="5622840"/>
            <a:ext cx="324000" cy="541440"/>
          </a:xfrm>
          <a:custGeom>
            <a:avLst/>
            <a:gdLst>
              <a:gd name="textAreaLeft" fmla="*/ 71280 w 324000"/>
              <a:gd name="textAreaRight" fmla="*/ 252720 w 324000"/>
              <a:gd name="textAreaTop" fmla="*/ 118800 h 541440"/>
              <a:gd name="textAreaBottom" fmla="*/ 422640 h 5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54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42764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88000" y="576756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85016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209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58000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093080" y="5732640"/>
            <a:ext cx="34920" cy="53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4281480" y="5335560"/>
            <a:ext cx="181080" cy="252360"/>
            <a:chOff x="4281480" y="5335560"/>
            <a:chExt cx="181080" cy="252360"/>
          </a:xfrm>
        </p:grpSpPr>
        <p:sp>
          <p:nvSpPr>
            <p:cNvPr id="1095" name=""/>
            <p:cNvSpPr/>
            <p:nvPr/>
          </p:nvSpPr>
          <p:spPr>
            <a:xfrm>
              <a:off x="42814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2976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2976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786200" y="5335560"/>
            <a:ext cx="181080" cy="252360"/>
            <a:chOff x="4786200" y="5335560"/>
            <a:chExt cx="181080" cy="252360"/>
          </a:xfrm>
        </p:grpSpPr>
        <p:sp>
          <p:nvSpPr>
            <p:cNvPr id="1099" name=""/>
            <p:cNvSpPr/>
            <p:nvPr/>
          </p:nvSpPr>
          <p:spPr>
            <a:xfrm>
              <a:off x="478620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0240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0240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7702560" y="5335560"/>
            <a:ext cx="181080" cy="252360"/>
            <a:chOff x="7702560" y="5335560"/>
            <a:chExt cx="181080" cy="252360"/>
          </a:xfrm>
        </p:grpSpPr>
        <p:sp>
          <p:nvSpPr>
            <p:cNvPr id="1103" name=""/>
            <p:cNvSpPr/>
            <p:nvPr/>
          </p:nvSpPr>
          <p:spPr>
            <a:xfrm>
              <a:off x="770256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71876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71876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207280" y="5335560"/>
            <a:ext cx="181080" cy="252360"/>
            <a:chOff x="8207280" y="5335560"/>
            <a:chExt cx="181080" cy="252360"/>
          </a:xfrm>
        </p:grpSpPr>
        <p:sp>
          <p:nvSpPr>
            <p:cNvPr id="1107" name=""/>
            <p:cNvSpPr/>
            <p:nvPr/>
          </p:nvSpPr>
          <p:spPr>
            <a:xfrm>
              <a:off x="8207280" y="5335560"/>
              <a:ext cx="181080" cy="252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646464"/>
                </a:gs>
                <a:gs pos="100000">
                  <a:srgbClr val="00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223480" y="5398560"/>
              <a:ext cx="14796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23480" y="5356080"/>
              <a:ext cx="147960" cy="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5904000" y="3968640"/>
            <a:ext cx="863640" cy="131760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5945040" y="5127480"/>
            <a:ext cx="150840" cy="230040"/>
            <a:chOff x="5945040" y="5127480"/>
            <a:chExt cx="150840" cy="230040"/>
          </a:xfrm>
        </p:grpSpPr>
        <p:sp>
          <p:nvSpPr>
            <p:cNvPr id="1112" name=""/>
            <p:cNvSpPr/>
            <p:nvPr/>
          </p:nvSpPr>
          <p:spPr>
            <a:xfrm>
              <a:off x="5945040" y="512748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68800" y="52545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56200" y="513864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56200" y="52653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56200" y="521964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6575400" y="5141880"/>
            <a:ext cx="150840" cy="230400"/>
            <a:chOff x="6575400" y="5141880"/>
            <a:chExt cx="150840" cy="230400"/>
          </a:xfrm>
        </p:grpSpPr>
        <p:sp>
          <p:nvSpPr>
            <p:cNvPr id="1118" name=""/>
            <p:cNvSpPr/>
            <p:nvPr/>
          </p:nvSpPr>
          <p:spPr>
            <a:xfrm>
              <a:off x="6575400" y="514188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598800" y="5268600"/>
              <a:ext cx="10476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586920" y="515340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586920" y="528012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86920" y="5234040"/>
              <a:ext cx="127440" cy="2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959440" y="5011560"/>
            <a:ext cx="122400" cy="13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589800" y="5156280"/>
            <a:ext cx="127080" cy="22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9800" y="5011560"/>
            <a:ext cx="122040" cy="144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083280" y="4408560"/>
            <a:ext cx="50652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959440" y="4184640"/>
            <a:ext cx="752400" cy="82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rot="4182000">
            <a:off x="5326560" y="4580640"/>
            <a:ext cx="109800" cy="1187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 rot="17418000">
            <a:off x="7199280" y="4478760"/>
            <a:ext cx="10188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711760" y="4895640"/>
            <a:ext cx="261000" cy="209520"/>
            <a:chOff x="5711760" y="4895640"/>
            <a:chExt cx="261000" cy="209520"/>
          </a:xfrm>
        </p:grpSpPr>
        <p:sp>
          <p:nvSpPr>
            <p:cNvPr id="1131" name=""/>
            <p:cNvSpPr/>
            <p:nvPr/>
          </p:nvSpPr>
          <p:spPr>
            <a:xfrm rot="4054800">
              <a:off x="5783400" y="4908240"/>
              <a:ext cx="150840" cy="183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4054800">
              <a:off x="5726520" y="498276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4054800">
              <a:off x="5858640" y="496152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4054800">
              <a:off x="5741280" y="500976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4054800">
              <a:off x="5783760" y="499212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6696720" y="4867200"/>
            <a:ext cx="261000" cy="209880"/>
            <a:chOff x="6696720" y="4867200"/>
            <a:chExt cx="261000" cy="209880"/>
          </a:xfrm>
        </p:grpSpPr>
        <p:sp>
          <p:nvSpPr>
            <p:cNvPr id="1137" name=""/>
            <p:cNvSpPr/>
            <p:nvPr/>
          </p:nvSpPr>
          <p:spPr>
            <a:xfrm flipH="1" rot="17545200">
              <a:off x="6734520" y="4879800"/>
              <a:ext cx="150840" cy="18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rot="17545200">
              <a:off x="6837120" y="49543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rot="17545200">
              <a:off x="6683400" y="4933080"/>
              <a:ext cx="127080" cy="237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rot="17545200">
              <a:off x="6800400" y="4981320"/>
              <a:ext cx="127080" cy="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rot="17545200">
              <a:off x="6758280" y="4963680"/>
              <a:ext cx="127080" cy="2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3670200" y="576756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743280" y="5732640"/>
            <a:ext cx="324000" cy="72720"/>
          </a:xfrm>
          <a:custGeom>
            <a:avLst/>
            <a:gdLst>
              <a:gd name="textAreaLeft" fmla="*/ 71280 w 324000"/>
              <a:gd name="textAreaRight" fmla="*/ 252720 w 324000"/>
              <a:gd name="textAreaTop" fmla="*/ 15840 h 72720"/>
              <a:gd name="textAreaBottom" fmla="*/ 56880 h 7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743280" y="6235560"/>
            <a:ext cx="324000" cy="144720"/>
          </a:xfrm>
          <a:custGeom>
            <a:avLst/>
            <a:gdLst>
              <a:gd name="textAreaLeft" fmla="*/ 71280 w 324000"/>
              <a:gd name="textAreaRight" fmla="*/ 252720 w 324000"/>
              <a:gd name="textAreaTop" fmla="*/ 31680 h 144720"/>
              <a:gd name="textAreaBottom" fmla="*/ 1130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567640" y="5732640"/>
            <a:ext cx="4683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8675640" y="5840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675640" y="6056280"/>
            <a:ext cx="4683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35640" y="2421000"/>
            <a:ext cx="612720" cy="158256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687280" y="2422440"/>
            <a:ext cx="647640" cy="1582920"/>
          </a:xfrm>
          <a:prstGeom prst="parallelogram">
            <a:avLst>
              <a:gd name="adj" fmla="val 44023"/>
            </a:avLst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688000" y="217008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588000" y="2168640"/>
            <a:ext cx="360360" cy="395280"/>
          </a:xfrm>
          <a:prstGeom prst="ellipse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rot="20999400">
            <a:off x="5904000" y="342864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H="1" rot="600600">
            <a:off x="6443640" y="342900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rot="20999400">
            <a:off x="5761080" y="2491920"/>
            <a:ext cx="32364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 rot="600600">
            <a:off x="6588000" y="2492280"/>
            <a:ext cx="324000" cy="108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5796000" y="1989360"/>
            <a:ext cx="144360" cy="345960"/>
            <a:chOff x="5796000" y="1989360"/>
            <a:chExt cx="144360" cy="345960"/>
          </a:xfrm>
        </p:grpSpPr>
        <p:grpSp>
          <p:nvGrpSpPr>
            <p:cNvPr id="1157" name=""/>
            <p:cNvGrpSpPr/>
            <p:nvPr/>
          </p:nvGrpSpPr>
          <p:grpSpPr>
            <a:xfrm>
              <a:off x="5796000" y="1989360"/>
              <a:ext cx="144360" cy="230040"/>
              <a:chOff x="5796000" y="1989360"/>
              <a:chExt cx="144360" cy="230040"/>
            </a:xfrm>
          </p:grpSpPr>
          <p:sp>
            <p:nvSpPr>
              <p:cNvPr id="1158" name=""/>
              <p:cNvSpPr/>
              <p:nvPr/>
            </p:nvSpPr>
            <p:spPr>
              <a:xfrm flipV="1">
                <a:off x="57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V="1">
                <a:off x="58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V="1">
                <a:off x="58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58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58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 flipV="1">
              <a:off x="58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696000" y="1989360"/>
            <a:ext cx="144360" cy="345960"/>
            <a:chOff x="6696000" y="1989360"/>
            <a:chExt cx="144360" cy="345960"/>
          </a:xfrm>
        </p:grpSpPr>
        <p:grpSp>
          <p:nvGrpSpPr>
            <p:cNvPr id="1165" name=""/>
            <p:cNvGrpSpPr/>
            <p:nvPr/>
          </p:nvGrpSpPr>
          <p:grpSpPr>
            <a:xfrm>
              <a:off x="6696000" y="1989360"/>
              <a:ext cx="144360" cy="230040"/>
              <a:chOff x="6696000" y="1989360"/>
              <a:chExt cx="144360" cy="230040"/>
            </a:xfrm>
          </p:grpSpPr>
          <p:sp>
            <p:nvSpPr>
              <p:cNvPr id="1166" name=""/>
              <p:cNvSpPr/>
              <p:nvPr/>
            </p:nvSpPr>
            <p:spPr>
              <a:xfrm flipV="1">
                <a:off x="6696000" y="2035080"/>
                <a:ext cx="1443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6718680" y="1989360"/>
                <a:ext cx="100080" cy="102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6706440" y="2184480"/>
                <a:ext cx="121320" cy="237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6706440" y="2057040"/>
                <a:ext cx="121320" cy="2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6706440" y="2103480"/>
                <a:ext cx="121320" cy="2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 flipV="1">
              <a:off x="6709320" y="2205000"/>
              <a:ext cx="117000" cy="129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435600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6803280" y="1542960"/>
            <a:ext cx="1476360" cy="3757680"/>
          </a:xfrm>
          <a:custGeom>
            <a:avLst/>
            <a:gdLst/>
            <a:ahLst/>
            <a:rect l="l" t="t" r="r" b="b"/>
            <a:pathLst>
              <a:path w="930" h="2367">
                <a:moveTo>
                  <a:pt x="0" y="2367"/>
                </a:moveTo>
                <a:cubicBezTo>
                  <a:pt x="40" y="2042"/>
                  <a:pt x="119" y="806"/>
                  <a:pt x="238" y="414"/>
                </a:cubicBezTo>
                <a:cubicBezTo>
                  <a:pt x="357" y="22"/>
                  <a:pt x="597" y="36"/>
                  <a:pt x="712" y="18"/>
                </a:cubicBezTo>
                <a:cubicBezTo>
                  <a:pt x="827" y="0"/>
                  <a:pt x="885" y="244"/>
                  <a:pt x="930" y="303"/>
                </a:cubicBezTo>
              </a:path>
            </a:pathLst>
          </a:custGeom>
          <a:noFill/>
          <a:ln w="1015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>
            <a:hlinkClick r:id="rId3" action="ppaction://hlinksldjump"/>
          </p:cNvPr>
          <p:cNvSpPr/>
          <p:nvPr/>
        </p:nvSpPr>
        <p:spPr>
          <a:xfrm>
            <a:off x="393840" y="6416640"/>
            <a:ext cx="1153800" cy="36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up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" action="ppaction://hlinkshowjump?jump=nextslide"/>
          </p:cNvPr>
          <p:cNvSpPr/>
          <p:nvPr/>
        </p:nvSpPr>
        <p:spPr>
          <a:xfrm rot="5400000">
            <a:off x="1548360" y="6452280"/>
            <a:ext cx="358920" cy="2872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Webbing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p Pad / Hippo P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-rd Minimi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nching Tool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uch (34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-Role Radio Po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tol Hol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80 Bayonet Fr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-Cutter Fr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le Grenade P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p ut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4680000" y="2133720"/>
            <a:ext cx="2052720" cy="191916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2"/>
          <a:stretch/>
        </p:blipFill>
        <p:spPr>
          <a:xfrm>
            <a:off x="7236000" y="3645000"/>
            <a:ext cx="1355400" cy="197460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1944720" cy="1733400"/>
          </a:xfrm>
          <a:prstGeom prst="rect">
            <a:avLst/>
          </a:prstGeom>
          <a:ln w="0">
            <a:noFill/>
          </a:ln>
        </p:spPr>
      </p:pic>
      <p:pic>
        <p:nvPicPr>
          <p:cNvPr id="1182" name="" descr=""/>
          <p:cNvPicPr/>
          <p:nvPr/>
        </p:nvPicPr>
        <p:blipFill>
          <a:blip r:embed="rId4"/>
          <a:stretch/>
        </p:blipFill>
        <p:spPr>
          <a:xfrm>
            <a:off x="6823080" y="1484280"/>
            <a:ext cx="1781280" cy="2232000"/>
          </a:xfrm>
          <a:prstGeom prst="rect">
            <a:avLst/>
          </a:prstGeom>
          <a:ln w="0">
            <a:noFill/>
          </a:ln>
        </p:spPr>
      </p:pic>
      <p:sp>
        <p:nvSpPr>
          <p:cNvPr id="1183" name="">
            <a:hlinkClick r:id="rId5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PL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y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current tactical webbing system of the British Ar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nsists of a Belt, Yoke (shoulder harness) and a number of Pou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with PLCE Webbing is a series of other similar load carrying equipment and rucks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77080" y="4221000"/>
            <a:ext cx="1789200" cy="2208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british_army_type_plce_infantry_bergen_olive"/>
          <p:cNvPicPr/>
          <p:nvPr/>
        </p:nvPicPr>
        <p:blipFill>
          <a:blip r:embed="rId2"/>
          <a:stretch/>
        </p:blipFill>
        <p:spPr>
          <a:xfrm>
            <a:off x="4716360" y="4292640"/>
            <a:ext cx="1897200" cy="2352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bergens_and_webbing_side_pocket_set"/>
          <p:cNvPicPr/>
          <p:nvPr/>
        </p:nvPicPr>
        <p:blipFill>
          <a:blip r:embed="rId3"/>
          <a:stretch/>
        </p:blipFill>
        <p:spPr>
          <a:xfrm>
            <a:off x="2987640" y="4724280"/>
            <a:ext cx="1434960" cy="148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bergens_and_webbing_soldier_95_plce_webbing_dpm"/>
          <p:cNvPicPr/>
          <p:nvPr/>
        </p:nvPicPr>
        <p:blipFill>
          <a:blip r:embed="rId4"/>
          <a:stretch/>
        </p:blipFill>
        <p:spPr>
          <a:xfrm>
            <a:off x="324000" y="4578480"/>
            <a:ext cx="2519280" cy="170496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CE replaced 58 Pattern webbing, which was made of olive canvas: this system was outdated by the 1980’s. It was very heavy, uncomfortable and shrank when wet- these problems were well noted by soldiers during the 1982 Falklands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 introduced Nylon M-67 (and l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-purp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weigh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ividu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y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, )) type webbing during the Vietnam War to overcome the issues associated with canvas in damp clim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ir lead, Britain developed 72-Patt webbing, which was based on 58-Patt in nylon. This had very limited use, and was not on general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resumed with the introduction of the SA80 Rifle in the mid-late 80’s. Experimental (85-Patt) PLCE appeared at this time. It was very similar to the first Issue PLCE, but used snaps for closure on all pou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LCE (90-Patt) appeared around 1988, in OG. The original type used ’58 pattern C-Hooks for belt attachment, and angled D-Rings for Yoke attachment on the Ammo pouches (so there were separate left and right pouch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oduction Utility Pouches had additional belt attachments for high mounting, like the ammo pouches of '37 or '44 Pattern webb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PLCE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OG webbing has ambidextrous Yoke fittings and standard PLCE belt attachments. The Disruptive Pattern Material (DPM) version (95-Patt/Soldier 95) has been made since about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concept for PLCE was modular. Known as CEFO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b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pmen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er) the minimum rig was two Double Ammo Pouches, known as CEFO-AO (Assault Ord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is, Canteens, Respirators, Entrenching Tools and Bayonets could be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E 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01720"/>
            <a:ext cx="8578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rimary versions of PLCE Webbing exist: OG (90-Patt) and DPM (95-P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ries of minor modifications to buckles, clips and fastenings also exist within these two versions, dependant on the year of manufa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 OG only: two types of ammo pouch - left and right. Ammo pouches are internally divided, providing enough space for two magazines per pouch. Pouch fasteners are pull tag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 DPM and OG: Two types of ammo pouch - left and right. No internal pouch dividers in ammo pouch. Pouch fasteners are pull tag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 DPM and OG: As 2, but pouch fasteners are replaced with quick release cl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 DPM only. Double pouch – pouches are now side specific, can be used on left or right side. No internal dividers. Semi-directional yoke fastening 'D' rings on pouches have been replaced by universal slotted 'A' rings, which also now appear (in pairs) on Utility Pouches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a: DPM only: Single ammo pouch. Pull tag type pocket fastener. Other specification as 4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b: DPM only: Single ammo pouch. Quick release clips. Other specification as 4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bergens_and_webbing_soldier_95_plce_webbing_dpm"/>
          <p:cNvPicPr/>
          <p:nvPr/>
        </p:nvPicPr>
        <p:blipFill>
          <a:blip r:embed="rId1"/>
          <a:stretch/>
        </p:blipFill>
        <p:spPr>
          <a:xfrm>
            <a:off x="250920" y="1557360"/>
            <a:ext cx="4105080" cy="27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720" y="1484280"/>
            <a:ext cx="37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 x Y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 x B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 x Utility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 x Water bottle p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 x Ammo p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11280" y="2637000"/>
            <a:ext cx="2340000" cy="3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211280" y="3537000"/>
            <a:ext cx="539640" cy="252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834920" y="4184640"/>
            <a:ext cx="2950920" cy="1008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971280" y="4184640"/>
            <a:ext cx="3708360" cy="1836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916360" y="4076280"/>
            <a:ext cx="1761840" cy="289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743280" y="3897000"/>
            <a:ext cx="900000" cy="208764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7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: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6321"/>
          <a:stretch/>
        </p:blipFill>
        <p:spPr>
          <a:xfrm>
            <a:off x="611280" y="2168640"/>
            <a:ext cx="450540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08720" y="38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le LHS (f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2951280" y="4041720"/>
            <a:ext cx="2557440" cy="23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3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lease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592360" y="4257720"/>
            <a:ext cx="2951280" cy="349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le (adju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908000" y="4436640"/>
            <a:ext cx="3600720" cy="1104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27558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or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959280" y="2997360"/>
            <a:ext cx="1620720" cy="1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155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b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067280" y="1798560"/>
            <a:ext cx="1441440" cy="801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664000" y="1773360"/>
            <a:ext cx="2808000" cy="57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27640" y="3033720"/>
            <a:ext cx="1116000" cy="142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511280" y="2312640"/>
            <a:ext cx="0" cy="826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65080" y="1995480"/>
            <a:ext cx="12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ay u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393840" y="6416640"/>
            <a:ext cx="1117440" cy="3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 rot="5400000">
            <a:off x="151164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 rot="16200000">
            <a:off x="34560" y="6452280"/>
            <a:ext cx="358920" cy="28764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2:31:10Z</dcterms:created>
  <dc:creator>Alex Pye</dc:creator>
  <dc:description/>
  <dc:language>en-US</dc:language>
  <cp:lastModifiedBy>Antonino Zema</cp:lastModifiedBy>
  <dcterms:modified xsi:type="dcterms:W3CDTF">2008-11-21T11:24:18Z</dcterms:modified>
  <cp:revision>3</cp:revision>
  <dc:subject/>
  <dc:title>Setting up PLCE webbing</dc:title>
</cp:coreProperties>
</file>