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12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8.png" ContentType="image/png"/>
  <Override PartName="/ppt/media/image13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42F3-9AF5-40AF-82E6-BAB2B27E9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F1CA-E9CF-425B-BA32-1C4D84C07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5810-BEC6-4B56-A83A-F89CE5271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2DFF-4521-4A40-8CA1-612BE1337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7C54-044A-4580-9FBB-A09640C38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B79B-48FF-4308-B796-97F16771B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992D-5334-409D-9604-3720961EB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320F-E8BF-49A6-B926-408A6AA86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6280-C139-4B3B-A0B4-CA397905F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5E1E-8232-4556-814F-C90E205A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8BDB-2A04-4E34-928A-F601A8C1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F95D-97A4-45F1-A90F-32696AA7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175520" y="0"/>
            <a:ext cx="1968480" cy="9223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6877080" y="0"/>
            <a:ext cx="2266920" cy="1052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67612-AA37-435A-9194-49C9F59E9BF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2.xml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" Target="slide2.xml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" Target="slide2.xml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slide" Target="slide19.xml"/><Relationship Id="rId6" Type="http://schemas.openxmlformats.org/officeDocument/2006/relationships/slide" Target="slide20.xml"/><Relationship Id="rId7" Type="http://schemas.openxmlformats.org/officeDocument/2006/relationships/slide" Target="slide21.xml"/><Relationship Id="rId8" Type="http://schemas.openxmlformats.org/officeDocument/2006/relationships/slide" Target="slide22.xml"/><Relationship Id="rId9" Type="http://schemas.openxmlformats.org/officeDocument/2006/relationships/slide" Target="slide23.xml"/><Relationship Id="rId10" Type="http://schemas.openxmlformats.org/officeDocument/2006/relationships/slide" Target="slide24.xml"/><Relationship Id="rId11" Type="http://schemas.openxmlformats.org/officeDocument/2006/relationships/slide" Target="slide2.xml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14.xml"/><Relationship Id="rId6" Type="http://schemas.openxmlformats.org/officeDocument/2006/relationships/slide" Target="slide25.xml"/><Relationship Id="rId7" Type="http://schemas.openxmlformats.org/officeDocument/2006/relationships/slide" Target="slide2.xml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" Target="slide14.xml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" Target="slide14.xml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" Target="slide14.xml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" Target="slide14.xml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" Target="slide14.xml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" Target="slide2.xml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" Target="slide2.xml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0.xml"/><Relationship Id="rId3" Type="http://schemas.openxmlformats.org/officeDocument/2006/relationships/slide" Target="slide9.xml"/><Relationship Id="rId4" Type="http://schemas.openxmlformats.org/officeDocument/2006/relationships/slide" Target="slide13.xml"/><Relationship Id="rId5" Type="http://schemas.openxmlformats.org/officeDocument/2006/relationships/slide" Target="slide13.xml"/><Relationship Id="rId6" Type="http://schemas.openxmlformats.org/officeDocument/2006/relationships/slide" Target="slide11.xml"/><Relationship Id="rId7" Type="http://schemas.openxmlformats.org/officeDocument/2006/relationships/slide" Target="slide2.xml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tting up PLCE webb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1" action="ppaction://hlinksldjump"/>
          </p:cNvPr>
          <p:cNvSpPr/>
          <p:nvPr/>
        </p:nvSpPr>
        <p:spPr>
          <a:xfrm>
            <a:off x="393840" y="6416640"/>
            <a:ext cx="1117440" cy="3603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" action="ppaction://hlinkshowjump?jump=nextslide"/>
          </p:cNvPr>
          <p:cNvSpPr/>
          <p:nvPr/>
        </p:nvSpPr>
        <p:spPr>
          <a:xfrm rot="5400000">
            <a:off x="151164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previousslide"/>
          </p:cNvPr>
          <p:cNvSpPr/>
          <p:nvPr/>
        </p:nvSpPr>
        <p:spPr>
          <a:xfrm flipH="1" rot="16200000">
            <a:off x="3456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nents: Yo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19280" y="1484280"/>
            <a:ext cx="3402000" cy="46087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148360" y="1531800"/>
            <a:ext cx="302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ammo pou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strap 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032000" y="1771560"/>
            <a:ext cx="1152360" cy="18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48360" y="2359080"/>
            <a:ext cx="302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dder lock buckl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-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276360" y="2243160"/>
            <a:ext cx="1871640" cy="3571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48360" y="307980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bing Lo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879640" y="3321000"/>
            <a:ext cx="2268720" cy="18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148360" y="383544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sh ba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879640" y="4076640"/>
            <a:ext cx="2268720" cy="18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48360" y="4519440"/>
            <a:ext cx="302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ammo pouche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strap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3526920" y="4761000"/>
            <a:ext cx="1621080" cy="14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148360" y="5564160"/>
            <a:ext cx="3384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belt loo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strap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2879640" y="5805360"/>
            <a:ext cx="2268720" cy="18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95640" y="5013360"/>
            <a:ext cx="14436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763640" y="4992840"/>
            <a:ext cx="14436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087640" y="5353200"/>
            <a:ext cx="14436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735280" y="5316480"/>
            <a:ext cx="14436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258920" y="2168640"/>
            <a:ext cx="14436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887640" y="1989000"/>
            <a:ext cx="14472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087640" y="4761000"/>
            <a:ext cx="17928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736720" y="4761000"/>
            <a:ext cx="142920" cy="2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016000" y="4292640"/>
            <a:ext cx="142920" cy="2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735280" y="4292640"/>
            <a:ext cx="142920" cy="2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584360" y="1628640"/>
            <a:ext cx="142920" cy="2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203640" y="1665360"/>
            <a:ext cx="142920" cy="2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138" name="">
            <a:hlinkClick r:id="rId2" action="ppaction://hlinksldjump"/>
          </p:cNvPr>
          <p:cNvSpPr/>
          <p:nvPr/>
        </p:nvSpPr>
        <p:spPr>
          <a:xfrm>
            <a:off x="393840" y="6416640"/>
            <a:ext cx="1117440" cy="3603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" action="ppaction://hlinkshowjump?jump=nextslide"/>
          </p:cNvPr>
          <p:cNvSpPr/>
          <p:nvPr/>
        </p:nvSpPr>
        <p:spPr>
          <a:xfrm rot="5400000">
            <a:off x="151164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" action="ppaction://hlinkshowjump?jump=previousslide"/>
          </p:cNvPr>
          <p:cNvSpPr/>
          <p:nvPr/>
        </p:nvSpPr>
        <p:spPr>
          <a:xfrm flipH="1" rot="16200000">
            <a:off x="3456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nents: Ammo pouch (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2722320" cy="3060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211640" y="1449360"/>
            <a:ext cx="4622760" cy="30225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84360" y="4797360"/>
            <a:ext cx="1533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ick Release fasten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0000" y="4869000"/>
            <a:ext cx="153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ll tag fasten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1655640" y="3357360"/>
            <a:ext cx="576360" cy="1331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4642920" y="3860640"/>
            <a:ext cx="397080" cy="9367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>
            <a:hlinkClick r:id="rId3" action="ppaction://hlinksldjump"/>
          </p:cNvPr>
          <p:cNvSpPr/>
          <p:nvPr/>
        </p:nvSpPr>
        <p:spPr>
          <a:xfrm>
            <a:off x="393840" y="6416640"/>
            <a:ext cx="1117440" cy="3603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>
            <a:hlinkClick r:id="" action="ppaction://hlinkshowjump?jump=nextslide"/>
          </p:cNvPr>
          <p:cNvSpPr/>
          <p:nvPr/>
        </p:nvSpPr>
        <p:spPr>
          <a:xfrm rot="5400000">
            <a:off x="151164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" action="ppaction://hlinkshowjump?jump=previousslide"/>
          </p:cNvPr>
          <p:cNvSpPr/>
          <p:nvPr/>
        </p:nvSpPr>
        <p:spPr>
          <a:xfrm flipH="1" rot="16200000">
            <a:off x="3456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nents: Ammo pouch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79640" y="2709720"/>
            <a:ext cx="2879640" cy="288000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095640" y="1773360"/>
            <a:ext cx="719280" cy="863280"/>
            <a:chOff x="3095640" y="1773360"/>
            <a:chExt cx="719280" cy="863280"/>
          </a:xfrm>
        </p:grpSpPr>
        <p:sp>
          <p:nvSpPr>
            <p:cNvPr id="154" name=""/>
            <p:cNvSpPr/>
            <p:nvPr/>
          </p:nvSpPr>
          <p:spPr>
            <a:xfrm>
              <a:off x="3095640" y="1773360"/>
              <a:ext cx="719280" cy="8632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646464"/>
                </a:gs>
                <a:gs pos="100000">
                  <a:srgbClr val="000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160080" y="1989000"/>
              <a:ext cx="587880" cy="576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160080" y="1844640"/>
              <a:ext cx="587880" cy="73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3238560" y="2494080"/>
            <a:ext cx="431640" cy="2879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38560" y="2494080"/>
            <a:ext cx="431640" cy="14292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38560" y="2852640"/>
            <a:ext cx="431640" cy="7164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238560" y="2781360"/>
            <a:ext cx="431640" cy="7128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38560" y="4149720"/>
            <a:ext cx="431640" cy="7128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238560" y="4078440"/>
            <a:ext cx="431640" cy="7128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3238560" y="5301360"/>
            <a:ext cx="431640" cy="7164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38560" y="2852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385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38560" y="2494080"/>
            <a:ext cx="431640" cy="28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4822920" y="1773360"/>
            <a:ext cx="718920" cy="3600360"/>
            <a:chOff x="4822920" y="1773360"/>
            <a:chExt cx="718920" cy="3600360"/>
          </a:xfrm>
        </p:grpSpPr>
        <p:grpSp>
          <p:nvGrpSpPr>
            <p:cNvPr id="168" name=""/>
            <p:cNvGrpSpPr/>
            <p:nvPr/>
          </p:nvGrpSpPr>
          <p:grpSpPr>
            <a:xfrm>
              <a:off x="4822920" y="1773360"/>
              <a:ext cx="718920" cy="863280"/>
              <a:chOff x="4822920" y="1773360"/>
              <a:chExt cx="718920" cy="863280"/>
            </a:xfrm>
          </p:grpSpPr>
          <p:sp>
            <p:nvSpPr>
              <p:cNvPr id="169" name=""/>
              <p:cNvSpPr/>
              <p:nvPr/>
            </p:nvSpPr>
            <p:spPr>
              <a:xfrm>
                <a:off x="4822920" y="1773360"/>
                <a:ext cx="718920" cy="8632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646464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87360" y="1989000"/>
                <a:ext cx="587880" cy="5763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887360" y="1844640"/>
                <a:ext cx="587880" cy="73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4965480" y="2494080"/>
              <a:ext cx="431280" cy="28796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65480" y="2494080"/>
              <a:ext cx="431280" cy="14256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965480" y="2852640"/>
              <a:ext cx="431280" cy="7164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965480" y="2781360"/>
              <a:ext cx="431280" cy="7128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965480" y="4149720"/>
              <a:ext cx="431280" cy="7128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4965480" y="4077360"/>
              <a:ext cx="431280" cy="7164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4965480" y="5301360"/>
              <a:ext cx="431280" cy="7164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965480" y="2852640"/>
              <a:ext cx="431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965480" y="4149720"/>
              <a:ext cx="431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965480" y="2494080"/>
              <a:ext cx="431280" cy="287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3814920" y="2852640"/>
            <a:ext cx="288720" cy="1513080"/>
            <a:chOff x="3814920" y="2852640"/>
            <a:chExt cx="288720" cy="1513080"/>
          </a:xfrm>
        </p:grpSpPr>
        <p:sp>
          <p:nvSpPr>
            <p:cNvPr id="183" name=""/>
            <p:cNvSpPr/>
            <p:nvPr/>
          </p:nvSpPr>
          <p:spPr>
            <a:xfrm>
              <a:off x="3814920" y="2852640"/>
              <a:ext cx="288720" cy="15130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14920" y="2852640"/>
              <a:ext cx="288720" cy="7488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814920" y="4327920"/>
              <a:ext cx="288720" cy="3744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814920" y="2852640"/>
              <a:ext cx="288720" cy="151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4570560" y="1375920"/>
            <a:ext cx="288720" cy="1513080"/>
            <a:chOff x="4570560" y="1375920"/>
            <a:chExt cx="288720" cy="1513080"/>
          </a:xfrm>
        </p:grpSpPr>
        <p:sp>
          <p:nvSpPr>
            <p:cNvPr id="188" name=""/>
            <p:cNvSpPr/>
            <p:nvPr/>
          </p:nvSpPr>
          <p:spPr>
            <a:xfrm flipV="1">
              <a:off x="4570560" y="1375560"/>
              <a:ext cx="288720" cy="15130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4570560" y="2814120"/>
              <a:ext cx="288720" cy="7488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570560" y="1376280"/>
              <a:ext cx="288720" cy="3744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4570560" y="1375560"/>
              <a:ext cx="288720" cy="151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3851280" y="4113360"/>
            <a:ext cx="216000" cy="215640"/>
          </a:xfrm>
          <a:prstGeom prst="ellipse">
            <a:avLst/>
          </a:prstGeom>
          <a:gradFill rotWithShape="0">
            <a:gsLst>
              <a:gs pos="0">
                <a:srgbClr val="424242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4606920" y="1412280"/>
            <a:ext cx="216000" cy="220680"/>
          </a:xfrm>
          <a:prstGeom prst="ellipse">
            <a:avLst/>
          </a:prstGeom>
          <a:gradFill rotWithShape="0">
            <a:gsLst>
              <a:gs pos="0">
                <a:srgbClr val="424242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43280" y="2889360"/>
            <a:ext cx="144720" cy="1081080"/>
          </a:xfrm>
          <a:custGeom>
            <a:avLst/>
            <a:gdLst>
              <a:gd name="textAreaLeft" fmla="*/ 6840 w 144720"/>
              <a:gd name="textAreaRight" fmla="*/ 137880 w 144720"/>
              <a:gd name="textAreaTop" fmla="*/ 6840 h 1081080"/>
              <a:gd name="textAreaBottom" fmla="*/ 1074240 h 1081080"/>
            </a:gdLst>
            <a:ahLst/>
            <a:rect l="textAreaLeft" t="textAreaTop" r="textAreaRight" b="textAreaBottom"/>
            <a:pathLst>
              <a:path w="21600" h="161008">
                <a:moveTo>
                  <a:pt x="3600" y="0"/>
                </a:moveTo>
                <a:arcTo wR="3600" hR="3600" stAng="16200000" swAng="-5400000"/>
                <a:lnTo>
                  <a:pt x="0" y="157408"/>
                </a:lnTo>
                <a:arcTo wR="3600" hR="3600" stAng="10800000" swAng="-5400000"/>
                <a:lnTo>
                  <a:pt x="18000" y="1610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424242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0560" y="2852640"/>
            <a:ext cx="288720" cy="151308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08360" y="4113360"/>
            <a:ext cx="214560" cy="215640"/>
          </a:xfrm>
          <a:prstGeom prst="ellipse">
            <a:avLst/>
          </a:prstGeom>
          <a:gradFill rotWithShape="0">
            <a:gsLst>
              <a:gs pos="0">
                <a:srgbClr val="424242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51280" y="2852640"/>
            <a:ext cx="21600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11280" y="1844640"/>
            <a:ext cx="17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otted ‘A’ 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47640" y="360828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bing belt lo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227640" y="314640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lt locator p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940360" y="1628640"/>
            <a:ext cx="30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bing belt fixing lo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09440" y="6915240"/>
            <a:ext cx="24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 fasten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95640" y="2276640"/>
            <a:ext cx="86364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158920" y="4005360"/>
            <a:ext cx="115272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4824360" y="2097000"/>
            <a:ext cx="122400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4032000" y="2097000"/>
            <a:ext cx="1979640" cy="971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716360" y="3573360"/>
            <a:ext cx="151128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191280" y="483408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 Fast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4032000" y="4257360"/>
            <a:ext cx="2197080" cy="9349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4787640" y="4292640"/>
            <a:ext cx="1439640" cy="9000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>
            <a:hlinkClick r:id="rId1" action="ppaction://hlinksldjump"/>
          </p:cNvPr>
          <p:cNvSpPr/>
          <p:nvPr/>
        </p:nvSpPr>
        <p:spPr>
          <a:xfrm>
            <a:off x="393840" y="6416640"/>
            <a:ext cx="1117440" cy="3603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>
            <a:hlinkClick r:id="" action="ppaction://hlinkshowjump?jump=nextslide"/>
          </p:cNvPr>
          <p:cNvSpPr/>
          <p:nvPr/>
        </p:nvSpPr>
        <p:spPr>
          <a:xfrm rot="5400000">
            <a:off x="151164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>
            <a:hlinkClick r:id="" action="ppaction://hlinkshowjump?jump=previousslide"/>
          </p:cNvPr>
          <p:cNvSpPr/>
          <p:nvPr/>
        </p:nvSpPr>
        <p:spPr>
          <a:xfrm flipH="1" rot="16200000">
            <a:off x="3456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2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nents: Utility &amp;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 bottle pou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3276720" cy="21700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4211640" y="1773360"/>
            <a:ext cx="36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 of pouch setup as ammo pou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361800" y="4567320"/>
            <a:ext cx="2876760" cy="19144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3635280" y="4653000"/>
            <a:ext cx="2880000" cy="1908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468360" y="139716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tility Po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8360" y="3824280"/>
            <a:ext cx="36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Water bottle Pouch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(90 &amp; 95 Pat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>
            <a:hlinkClick r:id="rId4" action="ppaction://hlinksldjump"/>
          </p:cNvPr>
          <p:cNvSpPr/>
          <p:nvPr/>
        </p:nvSpPr>
        <p:spPr>
          <a:xfrm>
            <a:off x="393840" y="6416640"/>
            <a:ext cx="1117440" cy="3603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>
            <a:hlinkClick r:id="" action="ppaction://hlinkshowjump?jump=nextslide"/>
          </p:cNvPr>
          <p:cNvSpPr/>
          <p:nvPr/>
        </p:nvSpPr>
        <p:spPr>
          <a:xfrm rot="5400000">
            <a:off x="151164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>
            <a:hlinkClick r:id="" action="ppaction://hlinkshowjump?jump=previousslide"/>
          </p:cNvPr>
          <p:cNvSpPr/>
          <p:nvPr/>
        </p:nvSpPr>
        <p:spPr>
          <a:xfrm flipH="1" rot="16200000">
            <a:off x="3456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tting it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3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hort guide will show you how to put the webbing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Be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Fitting the yo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Preparing pou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Suggested posi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Pouch posi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Fixing Pouches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Fixing Pouches 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Fitting the yoke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Fitting the yoke 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Testing &amp; che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>
            <a:hlinkClick r:id="rId11" action="ppaction://hlinksldjump"/>
          </p:cNvPr>
          <p:cNvSpPr/>
          <p:nvPr/>
        </p:nvSpPr>
        <p:spPr>
          <a:xfrm>
            <a:off x="393840" y="6416640"/>
            <a:ext cx="1117440" cy="360360"/>
          </a:xfrm>
          <a:prstGeom prst="rect">
            <a:avLst/>
          </a:pr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" action="ppaction://hlinkshowjump?jump=nextslide"/>
          </p:cNvPr>
          <p:cNvSpPr/>
          <p:nvPr/>
        </p:nvSpPr>
        <p:spPr>
          <a:xfrm rot="5400000">
            <a:off x="151164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" action="ppaction://hlinkshowjump?jump=previousslide"/>
          </p:cNvPr>
          <p:cNvSpPr/>
          <p:nvPr/>
        </p:nvSpPr>
        <p:spPr>
          <a:xfrm flipH="1" rot="16200000">
            <a:off x="3456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1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tting it together (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Be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d belt around your waist with two ‘D’ rings at the back held equidistant from sp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sten QR clip at fr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just to 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may need to move belt locator pins on LHS to a new position to ensure QR clip is centr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3840" y="6416640"/>
            <a:ext cx="1153800" cy="3603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up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" action="ppaction://hlinkshowjump?jump=nextslide"/>
          </p:cNvPr>
          <p:cNvSpPr/>
          <p:nvPr/>
        </p:nvSpPr>
        <p:spPr>
          <a:xfrm rot="5400000">
            <a:off x="1548360" y="6452280"/>
            <a:ext cx="358920" cy="28728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" action="ppaction://hlinkshowjump?jump=previousslide"/>
          </p:cNvPr>
          <p:cNvSpPr/>
          <p:nvPr/>
        </p:nvSpPr>
        <p:spPr>
          <a:xfrm flipH="1" rot="16200000">
            <a:off x="3456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tting it together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2560" y="1600200"/>
            <a:ext cx="414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Fit Yoke (Part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 yoke down on floor, with strapping facing upw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yoke belt straps (strap 1) through be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ad Strap 1 through the ladder lock buckles A &amp; B (follow red dotted arr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188200" y="5408640"/>
            <a:ext cx="144720" cy="115236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332920" y="5264280"/>
            <a:ext cx="107640" cy="1044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296200" y="5121360"/>
            <a:ext cx="216000" cy="215640"/>
          </a:xfrm>
          <a:prstGeom prst="rect">
            <a:avLst/>
          </a:prstGeom>
          <a:gradFill rotWithShape="0">
            <a:gsLst>
              <a:gs pos="0">
                <a:srgbClr val="6f6f6f"/>
              </a:gs>
              <a:gs pos="50000">
                <a:srgbClr val="000000"/>
              </a:gs>
              <a:gs pos="100000">
                <a:srgbClr val="6f6f6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080200" y="3321000"/>
            <a:ext cx="73080" cy="115272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151840" y="3716280"/>
            <a:ext cx="71280" cy="1260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8234640" y="3900960"/>
            <a:ext cx="300240" cy="723240"/>
            <a:chOff x="8234640" y="3900960"/>
            <a:chExt cx="300240" cy="723240"/>
          </a:xfrm>
        </p:grpSpPr>
        <p:sp>
          <p:nvSpPr>
            <p:cNvPr id="242" name=""/>
            <p:cNvSpPr/>
            <p:nvPr/>
          </p:nvSpPr>
          <p:spPr>
            <a:xfrm rot="20659800">
              <a:off x="8320680" y="3898800"/>
              <a:ext cx="72720" cy="649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20659800">
              <a:off x="8373600" y="446292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8177040" y="4125960"/>
            <a:ext cx="608040" cy="1155600"/>
          </a:xfrm>
          <a:custGeom>
            <a:avLst/>
            <a:gdLst/>
            <a:ahLst/>
            <a:rect l="l" t="t" r="r" b="b"/>
            <a:pathLst>
              <a:path w="383" h="728">
                <a:moveTo>
                  <a:pt x="7" y="536"/>
                </a:moveTo>
                <a:cubicBezTo>
                  <a:pt x="3" y="577"/>
                  <a:pt x="0" y="619"/>
                  <a:pt x="7" y="649"/>
                </a:cubicBezTo>
                <a:cubicBezTo>
                  <a:pt x="14" y="679"/>
                  <a:pt x="22" y="706"/>
                  <a:pt x="52" y="717"/>
                </a:cubicBezTo>
                <a:cubicBezTo>
                  <a:pt x="82" y="728"/>
                  <a:pt x="154" y="728"/>
                  <a:pt x="188" y="717"/>
                </a:cubicBezTo>
                <a:cubicBezTo>
                  <a:pt x="222" y="706"/>
                  <a:pt x="245" y="678"/>
                  <a:pt x="256" y="649"/>
                </a:cubicBezTo>
                <a:cubicBezTo>
                  <a:pt x="267" y="620"/>
                  <a:pt x="267" y="577"/>
                  <a:pt x="253" y="544"/>
                </a:cubicBezTo>
                <a:cubicBezTo>
                  <a:pt x="239" y="511"/>
                  <a:pt x="202" y="481"/>
                  <a:pt x="169" y="448"/>
                </a:cubicBezTo>
                <a:cubicBezTo>
                  <a:pt x="136" y="415"/>
                  <a:pt x="74" y="393"/>
                  <a:pt x="55" y="346"/>
                </a:cubicBezTo>
                <a:cubicBezTo>
                  <a:pt x="36" y="299"/>
                  <a:pt x="51" y="208"/>
                  <a:pt x="55" y="166"/>
                </a:cubicBezTo>
                <a:cubicBezTo>
                  <a:pt x="59" y="124"/>
                  <a:pt x="58" y="121"/>
                  <a:pt x="79" y="94"/>
                </a:cubicBezTo>
                <a:cubicBezTo>
                  <a:pt x="100" y="67"/>
                  <a:pt x="157" y="8"/>
                  <a:pt x="181" y="4"/>
                </a:cubicBezTo>
                <a:cubicBezTo>
                  <a:pt x="205" y="0"/>
                  <a:pt x="230" y="47"/>
                  <a:pt x="223" y="70"/>
                </a:cubicBezTo>
                <a:cubicBezTo>
                  <a:pt x="216" y="93"/>
                  <a:pt x="161" y="114"/>
                  <a:pt x="139" y="142"/>
                </a:cubicBezTo>
                <a:cubicBezTo>
                  <a:pt x="117" y="170"/>
                  <a:pt x="99" y="208"/>
                  <a:pt x="91" y="238"/>
                </a:cubicBezTo>
                <a:cubicBezTo>
                  <a:pt x="83" y="268"/>
                  <a:pt x="71" y="297"/>
                  <a:pt x="91" y="322"/>
                </a:cubicBezTo>
                <a:cubicBezTo>
                  <a:pt x="111" y="347"/>
                  <a:pt x="162" y="345"/>
                  <a:pt x="211" y="388"/>
                </a:cubicBezTo>
                <a:cubicBezTo>
                  <a:pt x="260" y="431"/>
                  <a:pt x="347" y="542"/>
                  <a:pt x="383" y="582"/>
                </a:cubicBezTo>
              </a:path>
            </a:pathLst>
          </a:custGeom>
          <a:noFill/>
          <a:ln w="22320">
            <a:solidFill>
              <a:srgbClr val="ff0000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rot="9583800">
            <a:off x="8199000" y="3712680"/>
            <a:ext cx="7164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930920" y="5408640"/>
            <a:ext cx="2735280" cy="115236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5120" y="5192640"/>
            <a:ext cx="469800" cy="1414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46464"/>
              </a:gs>
              <a:gs pos="100000">
                <a:srgbClr val="00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81480" y="5227560"/>
            <a:ext cx="384120" cy="7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218200" y="5335560"/>
            <a:ext cx="323640" cy="10447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5335560"/>
            <a:ext cx="323640" cy="525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5219640" y="6335640"/>
            <a:ext cx="324000" cy="4464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218200" y="5335560"/>
            <a:ext cx="323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498920" y="5408640"/>
            <a:ext cx="466920" cy="1152360"/>
          </a:xfrm>
          <a:prstGeom prst="rect">
            <a:avLst/>
          </a:prstGeom>
          <a:gradFill rotWithShape="0">
            <a:gsLst>
              <a:gs pos="0">
                <a:srgbClr val="66990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7523280" y="5408640"/>
            <a:ext cx="395280" cy="1152360"/>
          </a:xfrm>
          <a:prstGeom prst="rect">
            <a:avLst/>
          </a:prstGeom>
          <a:gradFill rotWithShape="0">
            <a:gsLst>
              <a:gs pos="0">
                <a:srgbClr val="66990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00760" y="5192640"/>
            <a:ext cx="470160" cy="1414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46464"/>
              </a:gs>
              <a:gs pos="100000">
                <a:srgbClr val="00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37480" y="5227560"/>
            <a:ext cx="384120" cy="7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873840" y="5335560"/>
            <a:ext cx="324000" cy="10447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873840" y="5335560"/>
            <a:ext cx="324000" cy="525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875640" y="6335640"/>
            <a:ext cx="323640" cy="4464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873840" y="5335560"/>
            <a:ext cx="32400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073480" y="2347920"/>
            <a:ext cx="2268720" cy="180036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218200" y="3679920"/>
            <a:ext cx="323640" cy="13683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2700000">
            <a:off x="4767840" y="3626640"/>
            <a:ext cx="324000" cy="1224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rot="2700000">
            <a:off x="4298760" y="4482720"/>
            <a:ext cx="330120" cy="4320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fefef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873840" y="3753000"/>
            <a:ext cx="324000" cy="13683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rot="18900000">
            <a:off x="7167960" y="3758400"/>
            <a:ext cx="323640" cy="8175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 rot="18900000">
            <a:off x="7499520" y="4349520"/>
            <a:ext cx="330480" cy="289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fefef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181480" y="3753000"/>
            <a:ext cx="395280" cy="460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243400" y="4070520"/>
            <a:ext cx="274680" cy="258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211720" y="3781440"/>
            <a:ext cx="335160" cy="5724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211720" y="4098960"/>
            <a:ext cx="335160" cy="5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11720" y="3984480"/>
            <a:ext cx="335160" cy="5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6838920" y="3787920"/>
            <a:ext cx="395280" cy="575640"/>
            <a:chOff x="6838920" y="3787920"/>
            <a:chExt cx="395280" cy="575640"/>
          </a:xfrm>
        </p:grpSpPr>
        <p:sp>
          <p:nvSpPr>
            <p:cNvPr id="274" name=""/>
            <p:cNvSpPr/>
            <p:nvPr/>
          </p:nvSpPr>
          <p:spPr>
            <a:xfrm>
              <a:off x="6838920" y="3787920"/>
              <a:ext cx="395280" cy="460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900480" y="4104720"/>
              <a:ext cx="274680" cy="258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869880" y="3816720"/>
              <a:ext cx="33336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869880" y="4133880"/>
              <a:ext cx="333360" cy="5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869880" y="4018680"/>
              <a:ext cx="333360" cy="5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5218200" y="3463920"/>
            <a:ext cx="323640" cy="324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873840" y="3824280"/>
            <a:ext cx="335160" cy="57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873840" y="3463920"/>
            <a:ext cx="324000" cy="3603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073480" y="1663560"/>
            <a:ext cx="2268720" cy="72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66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543640" y="1952640"/>
            <a:ext cx="1330200" cy="180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218200" y="1952640"/>
            <a:ext cx="1979640" cy="151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89480" y="4870440"/>
            <a:ext cx="647640" cy="395280"/>
          </a:xfrm>
          <a:custGeom>
            <a:avLst/>
            <a:gdLst>
              <a:gd name="textAreaLeft" fmla="*/ 104040 w 647640"/>
              <a:gd name="textAreaRight" fmla="*/ 478800 w 647640"/>
              <a:gd name="textAreaTop" fmla="*/ 52920 h 395280"/>
              <a:gd name="textAreaBottom" fmla="*/ 342360 h 3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949" hR="21600" stAng="10800000" swAng="-5400000"/>
                <a:lnTo>
                  <a:pt x="12492" y="21600"/>
                </a:lnTo>
                <a:arcTo wR="6949" hR="21600" stAng="5400000" swAng="-1648426"/>
                <a:lnTo>
                  <a:pt x="20561" y="11364"/>
                </a:lnTo>
                <a:lnTo>
                  <a:pt x="16669" y="0"/>
                </a:lnTo>
                <a:lnTo>
                  <a:pt x="10698" y="11364"/>
                </a:lnTo>
                <a:lnTo>
                  <a:pt x="12858" y="11364"/>
                </a:lnTo>
                <a:arcTo wR="6949" hR="21600" stAng="3751574" swAng="1170512"/>
                <a:lnTo>
                  <a:pt x="9720" y="19807"/>
                </a:lnTo>
                <a:arcTo wR="6949" hR="21600" stAng="5877915" swAng="4922085"/>
                <a:close/>
              </a:path>
              <a:path fill="darkenLess" w="21600" h="21600">
                <a:moveTo>
                  <a:pt x="0" y="0"/>
                </a:moveTo>
                <a:arcTo wR="6949" hR="21600" stAng="10800000" swAng="-5400000"/>
                <a:lnTo>
                  <a:pt x="12492" y="21600"/>
                </a:lnTo>
                <a:arcTo wR="6949" hR="21600" stAng="5400000" swAng="477915"/>
                <a:lnTo>
                  <a:pt x="9720" y="19807"/>
                </a:lnTo>
                <a:arcTo wR="6949" hR="21600" stAng="5877915" swAng="4922085"/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946920" y="4940280"/>
            <a:ext cx="647640" cy="395280"/>
          </a:xfrm>
          <a:custGeom>
            <a:avLst/>
            <a:gdLst>
              <a:gd name="textAreaLeft" fmla="*/ 104040 w 647640"/>
              <a:gd name="textAreaRight" fmla="*/ 478800 w 647640"/>
              <a:gd name="textAreaTop" fmla="*/ 52920 h 395280"/>
              <a:gd name="textAreaBottom" fmla="*/ 342360 h 3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949" hR="21600" stAng="10800000" swAng="-5400000"/>
                <a:lnTo>
                  <a:pt x="12492" y="21600"/>
                </a:lnTo>
                <a:arcTo wR="6949" hR="21600" stAng="5400000" swAng="-1648426"/>
                <a:lnTo>
                  <a:pt x="20561" y="11364"/>
                </a:lnTo>
                <a:lnTo>
                  <a:pt x="16669" y="0"/>
                </a:lnTo>
                <a:lnTo>
                  <a:pt x="10698" y="11364"/>
                </a:lnTo>
                <a:lnTo>
                  <a:pt x="12858" y="11364"/>
                </a:lnTo>
                <a:arcTo wR="6949" hR="21600" stAng="3751574" swAng="1170512"/>
                <a:lnTo>
                  <a:pt x="9720" y="19807"/>
                </a:lnTo>
                <a:arcTo wR="6949" hR="21600" stAng="5877915" swAng="4922085"/>
                <a:close/>
              </a:path>
              <a:path fill="darkenLess" w="21600" h="21600">
                <a:moveTo>
                  <a:pt x="0" y="0"/>
                </a:moveTo>
                <a:arcTo wR="6949" hR="21600" stAng="10800000" swAng="-5400000"/>
                <a:lnTo>
                  <a:pt x="12492" y="21600"/>
                </a:lnTo>
                <a:arcTo wR="6949" hR="21600" stAng="5400000" swAng="477915"/>
                <a:lnTo>
                  <a:pt x="9720" y="19807"/>
                </a:lnTo>
                <a:arcTo wR="6949" hR="21600" stAng="5877915" swAng="4922085"/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7237080" y="4019040"/>
            <a:ext cx="638280" cy="649440"/>
            <a:chOff x="7237080" y="4019040"/>
            <a:chExt cx="638280" cy="649440"/>
          </a:xfrm>
        </p:grpSpPr>
        <p:sp>
          <p:nvSpPr>
            <p:cNvPr id="288" name=""/>
            <p:cNvSpPr/>
            <p:nvPr/>
          </p:nvSpPr>
          <p:spPr>
            <a:xfrm rot="19025400">
              <a:off x="7340760" y="4092120"/>
              <a:ext cx="395280" cy="46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9025400">
              <a:off x="7549200" y="4350600"/>
              <a:ext cx="274680" cy="258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19025400">
              <a:off x="7254000" y="4167000"/>
              <a:ext cx="33336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rot="19025400">
              <a:off x="7470360" y="4399560"/>
              <a:ext cx="333360" cy="5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19025400">
              <a:off x="7391880" y="4314960"/>
              <a:ext cx="333360" cy="5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4523760" y="4004280"/>
            <a:ext cx="643680" cy="644040"/>
            <a:chOff x="4523760" y="4004280"/>
            <a:chExt cx="643680" cy="644040"/>
          </a:xfrm>
        </p:grpSpPr>
        <p:sp>
          <p:nvSpPr>
            <p:cNvPr id="294" name=""/>
            <p:cNvSpPr/>
            <p:nvPr/>
          </p:nvSpPr>
          <p:spPr>
            <a:xfrm rot="2711400">
              <a:off x="4667040" y="4076280"/>
              <a:ext cx="395280" cy="460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2711400">
              <a:off x="4574880" y="4330080"/>
              <a:ext cx="274680" cy="258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2711400">
              <a:off x="4820400" y="4156200"/>
              <a:ext cx="33336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2711400">
              <a:off x="4595040" y="4379760"/>
              <a:ext cx="333360" cy="5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2711400">
              <a:off x="4676760" y="4298400"/>
              <a:ext cx="333360" cy="5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"/>
          <p:cNvSpPr txBox="1"/>
          <p:nvPr/>
        </p:nvSpPr>
        <p:spPr>
          <a:xfrm>
            <a:off x="5256360" y="3732120"/>
            <a:ext cx="20628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5256360" y="4567320"/>
            <a:ext cx="14436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948360" y="4638600"/>
            <a:ext cx="14472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392720" y="4510080"/>
            <a:ext cx="14436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7740720" y="4422600"/>
            <a:ext cx="144360" cy="2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788000" y="4170240"/>
            <a:ext cx="17928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6912000" y="3768840"/>
            <a:ext cx="20628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7416720" y="4149720"/>
            <a:ext cx="17964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307" name=""/>
          <p:cNvSpPr/>
          <p:nvPr/>
        </p:nvSpPr>
        <p:spPr>
          <a:xfrm>
            <a:off x="393840" y="6416640"/>
            <a:ext cx="1153800" cy="3603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up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>
            <a:hlinkClick r:id="" action="ppaction://hlinkshowjump?jump=nextslide"/>
          </p:cNvPr>
          <p:cNvSpPr/>
          <p:nvPr/>
        </p:nvSpPr>
        <p:spPr>
          <a:xfrm rot="5400000">
            <a:off x="1548360" y="6452280"/>
            <a:ext cx="358920" cy="287280"/>
          </a:xfrm>
          <a:prstGeom prst="triangle">
            <a:avLst>
              <a:gd name="adj" fmla="val 500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" action="ppaction://hlinkshowjump?jump=previousslide"/>
          </p:cNvPr>
          <p:cNvSpPr/>
          <p:nvPr/>
        </p:nvSpPr>
        <p:spPr>
          <a:xfrm flipH="1" rot="16200000">
            <a:off x="3456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tting it together (I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68360" y="1592280"/>
            <a:ext cx="47512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Prepare Pou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o stud fastenings, lift webbing fixing loops &amp; belt locator pins so they are pointing upwards and do not infer when threading the belt through the webbing lo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5472000" y="1447920"/>
            <a:ext cx="2879640" cy="4212720"/>
            <a:chOff x="5472000" y="1447920"/>
            <a:chExt cx="2879640" cy="4212720"/>
          </a:xfrm>
        </p:grpSpPr>
        <p:sp>
          <p:nvSpPr>
            <p:cNvPr id="313" name=""/>
            <p:cNvSpPr/>
            <p:nvPr/>
          </p:nvSpPr>
          <p:spPr>
            <a:xfrm>
              <a:off x="5472000" y="2781000"/>
              <a:ext cx="2879640" cy="287964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4" name=""/>
            <p:cNvGrpSpPr/>
            <p:nvPr/>
          </p:nvGrpSpPr>
          <p:grpSpPr>
            <a:xfrm>
              <a:off x="6407280" y="1447920"/>
              <a:ext cx="288720" cy="1512720"/>
              <a:chOff x="6407280" y="1447920"/>
              <a:chExt cx="288720" cy="1512720"/>
            </a:xfrm>
          </p:grpSpPr>
          <p:sp>
            <p:nvSpPr>
              <p:cNvPr id="315" name=""/>
              <p:cNvSpPr/>
              <p:nvPr/>
            </p:nvSpPr>
            <p:spPr>
              <a:xfrm flipV="1">
                <a:off x="6407280" y="1447920"/>
                <a:ext cx="288720" cy="151272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V="1">
                <a:off x="6407280" y="2885760"/>
                <a:ext cx="288720" cy="7488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407280" y="1448280"/>
                <a:ext cx="288720" cy="3744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V="1">
                <a:off x="6407280" y="1447920"/>
                <a:ext cx="288720" cy="1512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5688000" y="1844640"/>
              <a:ext cx="719280" cy="863280"/>
              <a:chOff x="5688000" y="1844640"/>
              <a:chExt cx="719280" cy="863280"/>
            </a:xfrm>
          </p:grpSpPr>
          <p:sp>
            <p:nvSpPr>
              <p:cNvPr id="320" name=""/>
              <p:cNvSpPr/>
              <p:nvPr/>
            </p:nvSpPr>
            <p:spPr>
              <a:xfrm>
                <a:off x="5688000" y="1844640"/>
                <a:ext cx="719280" cy="8632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646464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752440" y="2060280"/>
                <a:ext cx="587880" cy="5763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752440" y="1915920"/>
                <a:ext cx="587880" cy="73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5830920" y="2565360"/>
              <a:ext cx="431640" cy="28792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830920" y="2565360"/>
              <a:ext cx="431640" cy="14256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830920" y="2923920"/>
              <a:ext cx="431640" cy="7128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5830920" y="2851920"/>
              <a:ext cx="431640" cy="7092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830920" y="4221000"/>
              <a:ext cx="431640" cy="7092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5830920" y="4149000"/>
              <a:ext cx="431640" cy="7092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5830920" y="5373360"/>
              <a:ext cx="431640" cy="7128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830920" y="292392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830920" y="422100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830920" y="2565360"/>
              <a:ext cx="431640" cy="287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415280" y="1844640"/>
              <a:ext cx="718920" cy="3599640"/>
              <a:chOff x="7415280" y="1844640"/>
              <a:chExt cx="718920" cy="3599640"/>
            </a:xfrm>
          </p:grpSpPr>
          <p:grpSp>
            <p:nvGrpSpPr>
              <p:cNvPr id="334" name=""/>
              <p:cNvGrpSpPr/>
              <p:nvPr/>
            </p:nvGrpSpPr>
            <p:grpSpPr>
              <a:xfrm>
                <a:off x="7415280" y="1844640"/>
                <a:ext cx="718920" cy="862920"/>
                <a:chOff x="7415280" y="1844640"/>
                <a:chExt cx="718920" cy="8629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7415280" y="1844640"/>
                  <a:ext cx="718920" cy="862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646464"/>
                    </a:gs>
                    <a:gs pos="100000">
                      <a:srgbClr val="000000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479720" y="2059920"/>
                  <a:ext cx="587880" cy="5760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7479720" y="1915560"/>
                  <a:ext cx="587880" cy="727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8" name=""/>
              <p:cNvSpPr/>
              <p:nvPr/>
            </p:nvSpPr>
            <p:spPr>
              <a:xfrm>
                <a:off x="7557840" y="2565000"/>
                <a:ext cx="431280" cy="287928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557840" y="2565000"/>
                <a:ext cx="431280" cy="14220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7557840" y="2923560"/>
                <a:ext cx="431280" cy="7128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V="1">
                <a:off x="7557840" y="2851560"/>
                <a:ext cx="431280" cy="7092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557840" y="4220640"/>
                <a:ext cx="431280" cy="7092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V="1">
                <a:off x="7557840" y="4149000"/>
                <a:ext cx="431280" cy="7128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V="1">
                <a:off x="7557840" y="5373000"/>
                <a:ext cx="431280" cy="7128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557840" y="2923560"/>
                <a:ext cx="43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557840" y="4220640"/>
                <a:ext cx="43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557840" y="2565000"/>
                <a:ext cx="431280" cy="2879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7162920" y="1447920"/>
              <a:ext cx="288720" cy="1512720"/>
              <a:chOff x="7162920" y="1447920"/>
              <a:chExt cx="288720" cy="1512720"/>
            </a:xfrm>
          </p:grpSpPr>
          <p:sp>
            <p:nvSpPr>
              <p:cNvPr id="349" name=""/>
              <p:cNvSpPr/>
              <p:nvPr/>
            </p:nvSpPr>
            <p:spPr>
              <a:xfrm flipV="1">
                <a:off x="7162920" y="1447920"/>
                <a:ext cx="288720" cy="151272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7162920" y="2885760"/>
                <a:ext cx="288720" cy="7488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162920" y="1448280"/>
                <a:ext cx="288720" cy="3744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V="1">
                <a:off x="7162920" y="1447920"/>
                <a:ext cx="288720" cy="1512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"/>
            <p:cNvSpPr/>
            <p:nvPr/>
          </p:nvSpPr>
          <p:spPr>
            <a:xfrm flipV="1">
              <a:off x="7199280" y="1484280"/>
              <a:ext cx="216000" cy="220320"/>
            </a:xfrm>
            <a:prstGeom prst="ellipse">
              <a:avLst/>
            </a:prstGeom>
            <a:gradFill rotWithShape="0">
              <a:gsLst>
                <a:gs pos="0">
                  <a:srgbClr val="424242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478560" y="1879560"/>
              <a:ext cx="144360" cy="1080720"/>
            </a:xfrm>
            <a:custGeom>
              <a:avLst/>
              <a:gdLst>
                <a:gd name="textAreaLeft" fmla="*/ 6840 w 144360"/>
                <a:gd name="textAreaRight" fmla="*/ 137520 w 144360"/>
                <a:gd name="textAreaTop" fmla="*/ 6840 h 1080720"/>
                <a:gd name="textAreaBottom" fmla="*/ 1073880 h 1080720"/>
              </a:gdLst>
              <a:ahLst/>
              <a:rect l="textAreaLeft" t="textAreaTop" r="textAreaRight" b="textAreaBottom"/>
              <a:pathLst>
                <a:path w="21600" h="161355">
                  <a:moveTo>
                    <a:pt x="3600" y="0"/>
                  </a:moveTo>
                  <a:arcTo wR="3600" hR="3600" stAng="16200000" swAng="-5400000"/>
                  <a:lnTo>
                    <a:pt x="0" y="157755"/>
                  </a:lnTo>
                  <a:arcTo wR="3600" hR="3600" stAng="10800000" swAng="-5400000"/>
                  <a:lnTo>
                    <a:pt x="18000" y="1613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424242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162920" y="2923920"/>
              <a:ext cx="288720" cy="151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200720" y="4184640"/>
              <a:ext cx="214560" cy="215280"/>
            </a:xfrm>
            <a:prstGeom prst="ellipse">
              <a:avLst/>
            </a:prstGeom>
            <a:gradFill rotWithShape="0">
              <a:gsLst>
                <a:gs pos="0">
                  <a:srgbClr val="424242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443640" y="1484280"/>
              <a:ext cx="216000" cy="220320"/>
            </a:xfrm>
            <a:prstGeom prst="ellipse">
              <a:avLst/>
            </a:prstGeom>
            <a:gradFill rotWithShape="0">
              <a:gsLst>
                <a:gs pos="0">
                  <a:srgbClr val="424242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407280" y="2923920"/>
              <a:ext cx="288720" cy="151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445080" y="4184640"/>
              <a:ext cx="214560" cy="215280"/>
            </a:xfrm>
            <a:prstGeom prst="ellipse">
              <a:avLst/>
            </a:prstGeom>
            <a:gradFill rotWithShape="0">
              <a:gsLst>
                <a:gs pos="0">
                  <a:srgbClr val="424242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235640" y="1879560"/>
              <a:ext cx="144720" cy="1080720"/>
            </a:xfrm>
            <a:custGeom>
              <a:avLst/>
              <a:gdLst>
                <a:gd name="textAreaLeft" fmla="*/ 6840 w 144720"/>
                <a:gd name="textAreaRight" fmla="*/ 137880 w 144720"/>
                <a:gd name="textAreaTop" fmla="*/ 6840 h 1080720"/>
                <a:gd name="textAreaBottom" fmla="*/ 1073880 h 1080720"/>
              </a:gdLst>
              <a:ahLst/>
              <a:rect l="textAreaLeft" t="textAreaTop" r="textAreaRight" b="textAreaBottom"/>
              <a:pathLst>
                <a:path w="21600" h="160955">
                  <a:moveTo>
                    <a:pt x="3600" y="0"/>
                  </a:moveTo>
                  <a:arcTo wR="3600" hR="3600" stAng="16200000" swAng="-5400000"/>
                  <a:lnTo>
                    <a:pt x="0" y="157355"/>
                  </a:lnTo>
                  <a:arcTo wR="3600" hR="3600" stAng="10800000" swAng="-5400000"/>
                  <a:lnTo>
                    <a:pt x="18000" y="1609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424242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93840" y="6416640"/>
            <a:ext cx="1153800" cy="3603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up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>
            <a:hlinkClick r:id="" action="ppaction://hlinkshowjump?jump=nextslide"/>
          </p:cNvPr>
          <p:cNvSpPr/>
          <p:nvPr/>
        </p:nvSpPr>
        <p:spPr>
          <a:xfrm rot="5400000">
            <a:off x="1548360" y="6452280"/>
            <a:ext cx="358920" cy="28728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>
            <a:hlinkClick r:id="" action="ppaction://hlinkshowjump?jump=previousslide"/>
          </p:cNvPr>
          <p:cNvSpPr/>
          <p:nvPr/>
        </p:nvSpPr>
        <p:spPr>
          <a:xfrm flipH="1" rot="16200000">
            <a:off x="3456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tting it together (IV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uggested positi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gested pouch positioning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1655640" y="2637000"/>
            <a:ext cx="5473800" cy="2121840"/>
            <a:chOff x="1655640" y="2637000"/>
            <a:chExt cx="5473800" cy="2121840"/>
          </a:xfrm>
        </p:grpSpPr>
        <p:sp>
          <p:nvSpPr>
            <p:cNvPr id="367" name=""/>
            <p:cNvSpPr/>
            <p:nvPr/>
          </p:nvSpPr>
          <p:spPr>
            <a:xfrm>
              <a:off x="2016000" y="4145040"/>
              <a:ext cx="4608360" cy="4345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917880" y="4064040"/>
              <a:ext cx="176040" cy="536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646464"/>
                </a:gs>
                <a:gs pos="100000">
                  <a:srgbClr val="000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930480" y="4076640"/>
              <a:ext cx="144360" cy="26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944880" y="4118040"/>
              <a:ext cx="122040" cy="39312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944880" y="4118040"/>
              <a:ext cx="122040" cy="1836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3944880" y="4493520"/>
              <a:ext cx="122040" cy="1692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944880" y="4118040"/>
              <a:ext cx="122040" cy="393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538520" y="4064040"/>
              <a:ext cx="177840" cy="536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646464"/>
                </a:gs>
                <a:gs pos="100000">
                  <a:srgbClr val="000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552920" y="4076640"/>
              <a:ext cx="144360" cy="26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566960" y="4118040"/>
              <a:ext cx="120600" cy="39312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566960" y="4118040"/>
              <a:ext cx="120600" cy="1836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4566960" y="4493520"/>
              <a:ext cx="122400" cy="1692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566960" y="4118040"/>
              <a:ext cx="120600" cy="393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944880" y="3535200"/>
              <a:ext cx="122040" cy="5554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566960" y="3535200"/>
              <a:ext cx="120600" cy="5554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276360" y="3967200"/>
              <a:ext cx="576360" cy="7916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233440" y="3967200"/>
              <a:ext cx="755640" cy="79164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628720" y="3967200"/>
              <a:ext cx="324000" cy="7916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268360" y="3967200"/>
              <a:ext cx="324000" cy="7916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789440" y="3967200"/>
              <a:ext cx="576000" cy="7916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654520" y="3967200"/>
              <a:ext cx="755640" cy="79164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049800" y="3967200"/>
              <a:ext cx="324000" cy="7916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689440" y="3967200"/>
              <a:ext cx="324000" cy="7916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268360" y="3967200"/>
              <a:ext cx="324000" cy="540720"/>
            </a:xfrm>
            <a:custGeom>
              <a:avLst/>
              <a:gdLst>
                <a:gd name="textAreaLeft" fmla="*/ 71280 w 324000"/>
                <a:gd name="textAreaRight" fmla="*/ 252720 w 324000"/>
                <a:gd name="textAreaTop" fmla="*/ 118800 h 540720"/>
                <a:gd name="textAreaBottom" fmla="*/ 421920 h 54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8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628720" y="3967200"/>
              <a:ext cx="324000" cy="540720"/>
            </a:xfrm>
            <a:custGeom>
              <a:avLst/>
              <a:gdLst>
                <a:gd name="textAreaLeft" fmla="*/ 71280 w 324000"/>
                <a:gd name="textAreaRight" fmla="*/ 252720 w 324000"/>
                <a:gd name="textAreaTop" fmla="*/ 118800 h 540720"/>
                <a:gd name="textAreaBottom" fmla="*/ 421920 h 54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8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276360" y="3967200"/>
              <a:ext cx="576360" cy="433080"/>
            </a:xfrm>
            <a:custGeom>
              <a:avLst/>
              <a:gdLst>
                <a:gd name="textAreaLeft" fmla="*/ 126720 w 576360"/>
                <a:gd name="textAreaRight" fmla="*/ 449640 w 576360"/>
                <a:gd name="textAreaTop" fmla="*/ 95040 h 433080"/>
                <a:gd name="textAreaBottom" fmla="*/ 338040 h 43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8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789440" y="3967200"/>
              <a:ext cx="576000" cy="433080"/>
            </a:xfrm>
            <a:custGeom>
              <a:avLst/>
              <a:gdLst>
                <a:gd name="textAreaLeft" fmla="*/ 126720 w 576000"/>
                <a:gd name="textAreaRight" fmla="*/ 449280 w 576000"/>
                <a:gd name="textAreaTop" fmla="*/ 95040 h 433080"/>
                <a:gd name="textAreaBottom" fmla="*/ 338040 h 43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8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689440" y="3967200"/>
              <a:ext cx="324000" cy="540720"/>
            </a:xfrm>
            <a:custGeom>
              <a:avLst/>
              <a:gdLst>
                <a:gd name="textAreaLeft" fmla="*/ 71280 w 324000"/>
                <a:gd name="textAreaRight" fmla="*/ 252720 w 324000"/>
                <a:gd name="textAreaTop" fmla="*/ 118800 h 540720"/>
                <a:gd name="textAreaBottom" fmla="*/ 421920 h 54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8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049800" y="3967200"/>
              <a:ext cx="324000" cy="540720"/>
            </a:xfrm>
            <a:custGeom>
              <a:avLst/>
              <a:gdLst>
                <a:gd name="textAreaLeft" fmla="*/ 71280 w 324000"/>
                <a:gd name="textAreaRight" fmla="*/ 252720 w 324000"/>
                <a:gd name="textAreaTop" fmla="*/ 118800 h 540720"/>
                <a:gd name="textAreaBottom" fmla="*/ 421920 h 54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8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412720" y="4111560"/>
              <a:ext cx="34920" cy="53928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773080" y="4111560"/>
              <a:ext cx="34920" cy="53928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835600" y="4076640"/>
              <a:ext cx="34920" cy="53928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194160" y="4076640"/>
              <a:ext cx="34920" cy="53928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65440" y="4076640"/>
              <a:ext cx="34920" cy="53928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078160" y="4076640"/>
              <a:ext cx="34920" cy="53928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2266920" y="3679560"/>
              <a:ext cx="180720" cy="252360"/>
              <a:chOff x="2266920" y="3679560"/>
              <a:chExt cx="180720" cy="252360"/>
            </a:xfrm>
          </p:grpSpPr>
          <p:sp>
            <p:nvSpPr>
              <p:cNvPr id="403" name=""/>
              <p:cNvSpPr/>
              <p:nvPr/>
            </p:nvSpPr>
            <p:spPr>
              <a:xfrm>
                <a:off x="2266920" y="3679560"/>
                <a:ext cx="180720" cy="25236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646464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283120" y="3742560"/>
                <a:ext cx="147960" cy="168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283120" y="3700080"/>
                <a:ext cx="147960" cy="212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2771640" y="3679560"/>
              <a:ext cx="181080" cy="252360"/>
              <a:chOff x="2771640" y="3679560"/>
              <a:chExt cx="181080" cy="252360"/>
            </a:xfrm>
          </p:grpSpPr>
          <p:sp>
            <p:nvSpPr>
              <p:cNvPr id="407" name=""/>
              <p:cNvSpPr/>
              <p:nvPr/>
            </p:nvSpPr>
            <p:spPr>
              <a:xfrm>
                <a:off x="2771640" y="3679560"/>
                <a:ext cx="181080" cy="25236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646464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787840" y="3742560"/>
                <a:ext cx="147960" cy="168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787840" y="3700080"/>
                <a:ext cx="147960" cy="212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5688000" y="3679560"/>
              <a:ext cx="180720" cy="252360"/>
              <a:chOff x="5688000" y="3679560"/>
              <a:chExt cx="180720" cy="252360"/>
            </a:xfrm>
          </p:grpSpPr>
          <p:sp>
            <p:nvSpPr>
              <p:cNvPr id="411" name=""/>
              <p:cNvSpPr/>
              <p:nvPr/>
            </p:nvSpPr>
            <p:spPr>
              <a:xfrm>
                <a:off x="5688000" y="3679560"/>
                <a:ext cx="180720" cy="25236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646464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704200" y="3742560"/>
                <a:ext cx="147960" cy="168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704200" y="3700080"/>
                <a:ext cx="147960" cy="212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6192720" y="3679560"/>
              <a:ext cx="181080" cy="252360"/>
              <a:chOff x="6192720" y="3679560"/>
              <a:chExt cx="181080" cy="252360"/>
            </a:xfrm>
          </p:grpSpPr>
          <p:sp>
            <p:nvSpPr>
              <p:cNvPr id="415" name=""/>
              <p:cNvSpPr/>
              <p:nvPr/>
            </p:nvSpPr>
            <p:spPr>
              <a:xfrm>
                <a:off x="6192720" y="3679560"/>
                <a:ext cx="181080" cy="25236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646464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208920" y="3742560"/>
                <a:ext cx="147960" cy="168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208920" y="3700080"/>
                <a:ext cx="147960" cy="212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8" name=""/>
            <p:cNvSpPr/>
            <p:nvPr/>
          </p:nvSpPr>
          <p:spPr>
            <a:xfrm>
              <a:off x="3889080" y="2909880"/>
              <a:ext cx="863640" cy="72036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9" name=""/>
            <p:cNvGrpSpPr/>
            <p:nvPr/>
          </p:nvGrpSpPr>
          <p:grpSpPr>
            <a:xfrm>
              <a:off x="3930480" y="3471840"/>
              <a:ext cx="150840" cy="229320"/>
              <a:chOff x="3930480" y="3471840"/>
              <a:chExt cx="150840" cy="229320"/>
            </a:xfrm>
          </p:grpSpPr>
          <p:sp>
            <p:nvSpPr>
              <p:cNvPr id="420" name=""/>
              <p:cNvSpPr/>
              <p:nvPr/>
            </p:nvSpPr>
            <p:spPr>
              <a:xfrm>
                <a:off x="3930480" y="3471840"/>
                <a:ext cx="150840" cy="183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954240" y="3598560"/>
                <a:ext cx="104760" cy="102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941640" y="3482640"/>
                <a:ext cx="127080" cy="2340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941640" y="3609360"/>
                <a:ext cx="127080" cy="2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941640" y="3563640"/>
                <a:ext cx="127080" cy="23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4560840" y="3486240"/>
              <a:ext cx="150840" cy="229680"/>
              <a:chOff x="4560840" y="3486240"/>
              <a:chExt cx="150840" cy="229680"/>
            </a:xfrm>
          </p:grpSpPr>
          <p:sp>
            <p:nvSpPr>
              <p:cNvPr id="426" name=""/>
              <p:cNvSpPr/>
              <p:nvPr/>
            </p:nvSpPr>
            <p:spPr>
              <a:xfrm>
                <a:off x="4560840" y="3486240"/>
                <a:ext cx="150840" cy="183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584240" y="3612600"/>
                <a:ext cx="104760" cy="103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572360" y="3497760"/>
                <a:ext cx="127440" cy="22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572360" y="3624120"/>
                <a:ext cx="127440" cy="22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572360" y="3578040"/>
                <a:ext cx="127440" cy="22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1" name=""/>
            <p:cNvSpPr/>
            <p:nvPr/>
          </p:nvSpPr>
          <p:spPr>
            <a:xfrm>
              <a:off x="3944880" y="3355920"/>
              <a:ext cx="122040" cy="1299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574880" y="3500280"/>
              <a:ext cx="127080" cy="219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574880" y="3355920"/>
              <a:ext cx="122400" cy="1440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889080" y="2637000"/>
              <a:ext cx="863640" cy="2869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66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068720" y="2752560"/>
              <a:ext cx="506160" cy="7189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944880" y="2752560"/>
              <a:ext cx="752400" cy="603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4182000">
              <a:off x="3692520" y="3175560"/>
              <a:ext cx="122040" cy="5554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 rot="17418000">
              <a:off x="4823640" y="3175560"/>
              <a:ext cx="122040" cy="5558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4182000">
              <a:off x="3493080" y="3246840"/>
              <a:ext cx="121680" cy="55584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efefe"/>
                </a:gs>
              </a:gsLst>
              <a:lin ang="121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 rot="17418000">
              <a:off x="5060880" y="3269160"/>
              <a:ext cx="121680" cy="55548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efefe"/>
                </a:gs>
              </a:gsLst>
              <a:lin ang="121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3697200" y="3311280"/>
              <a:ext cx="260640" cy="209160"/>
              <a:chOff x="3697200" y="3311280"/>
              <a:chExt cx="260640" cy="209160"/>
            </a:xfrm>
          </p:grpSpPr>
          <p:sp>
            <p:nvSpPr>
              <p:cNvPr id="442" name=""/>
              <p:cNvSpPr/>
              <p:nvPr/>
            </p:nvSpPr>
            <p:spPr>
              <a:xfrm rot="4054800">
                <a:off x="3768840" y="3323880"/>
                <a:ext cx="150480" cy="18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rot="4054800">
                <a:off x="3712320" y="3397680"/>
                <a:ext cx="104400" cy="102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rot="4054800">
                <a:off x="3844080" y="3376800"/>
                <a:ext cx="126720" cy="2376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rot="4054800">
                <a:off x="3727080" y="3424680"/>
                <a:ext cx="126720" cy="2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rot="4054800">
                <a:off x="3769200" y="3407760"/>
                <a:ext cx="126720" cy="2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7" name=""/>
            <p:cNvGrpSpPr/>
            <p:nvPr/>
          </p:nvGrpSpPr>
          <p:grpSpPr>
            <a:xfrm>
              <a:off x="4682160" y="3311280"/>
              <a:ext cx="261000" cy="209160"/>
              <a:chOff x="4682160" y="3311280"/>
              <a:chExt cx="261000" cy="209160"/>
            </a:xfrm>
          </p:grpSpPr>
          <p:sp>
            <p:nvSpPr>
              <p:cNvPr id="448" name=""/>
              <p:cNvSpPr/>
              <p:nvPr/>
            </p:nvSpPr>
            <p:spPr>
              <a:xfrm flipH="1" rot="17545200">
                <a:off x="4719960" y="3323520"/>
                <a:ext cx="150120" cy="18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H="1" rot="17545200">
                <a:off x="4822920" y="3397320"/>
                <a:ext cx="104400" cy="103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 rot="17545200">
                <a:off x="4668480" y="3376440"/>
                <a:ext cx="126720" cy="2376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H="1" rot="17545200">
                <a:off x="4786560" y="3424680"/>
                <a:ext cx="126720" cy="2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H="1" rot="17545200">
                <a:off x="4743360" y="3407400"/>
                <a:ext cx="126720" cy="2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3" name=""/>
            <p:cNvSpPr/>
            <p:nvPr/>
          </p:nvSpPr>
          <p:spPr>
            <a:xfrm>
              <a:off x="1655640" y="4111560"/>
              <a:ext cx="468360" cy="504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728720" y="4076640"/>
              <a:ext cx="323640" cy="72720"/>
            </a:xfrm>
            <a:custGeom>
              <a:avLst/>
              <a:gdLst>
                <a:gd name="textAreaLeft" fmla="*/ 70920 w 323640"/>
                <a:gd name="textAreaRight" fmla="*/ 252720 w 323640"/>
                <a:gd name="textAreaTop" fmla="*/ 15840 h 72720"/>
                <a:gd name="textAreaBottom" fmla="*/ 56880 h 7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1728720" y="4579920"/>
              <a:ext cx="323640" cy="144000"/>
            </a:xfrm>
            <a:custGeom>
              <a:avLst/>
              <a:gdLst>
                <a:gd name="textAreaLeft" fmla="*/ 70920 w 323640"/>
                <a:gd name="textAreaRight" fmla="*/ 252720 w 323640"/>
                <a:gd name="textAreaTop" fmla="*/ 31680 h 144000"/>
                <a:gd name="textAreaBottom" fmla="*/ 112320 h 14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553080" y="4076640"/>
              <a:ext cx="468360" cy="504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661080" y="4184640"/>
              <a:ext cx="468360" cy="7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661080" y="4400640"/>
              <a:ext cx="468360" cy="7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2214000" y="5016600"/>
            <a:ext cx="88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u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m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237840" y="5013360"/>
            <a:ext cx="75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752360" y="5013360"/>
            <a:ext cx="75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tt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652720" y="5013360"/>
            <a:ext cx="88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u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m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960720" y="278136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2592360" y="4724280"/>
            <a:ext cx="0" cy="325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3564000" y="4724280"/>
            <a:ext cx="0" cy="325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5111640" y="4724280"/>
            <a:ext cx="0" cy="325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6012000" y="4724280"/>
            <a:ext cx="0" cy="325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3959280" y="3787920"/>
            <a:ext cx="108000" cy="18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0" y="3787920"/>
            <a:ext cx="108000" cy="18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3527280" y="3429000"/>
            <a:ext cx="10800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5040360" y="3429000"/>
            <a:ext cx="10800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924360" y="3463920"/>
            <a:ext cx="10800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0" y="3500280"/>
            <a:ext cx="10800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3816360" y="3321000"/>
            <a:ext cx="10800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751280" y="3321000"/>
            <a:ext cx="10800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476" name=""/>
          <p:cNvSpPr/>
          <p:nvPr/>
        </p:nvSpPr>
        <p:spPr>
          <a:xfrm>
            <a:off x="393840" y="6416640"/>
            <a:ext cx="1153800" cy="3603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up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>
            <a:hlinkClick r:id="" action="ppaction://hlinkshowjump?jump=nextslide"/>
          </p:cNvPr>
          <p:cNvSpPr/>
          <p:nvPr/>
        </p:nvSpPr>
        <p:spPr>
          <a:xfrm rot="5400000">
            <a:off x="1548360" y="6452280"/>
            <a:ext cx="358920" cy="287280"/>
          </a:xfrm>
          <a:prstGeom prst="triangle">
            <a:avLst>
              <a:gd name="adj" fmla="val 500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>
            <a:hlinkClick r:id="" action="ppaction://hlinkshowjump?jump=previousslide"/>
          </p:cNvPr>
          <p:cNvSpPr/>
          <p:nvPr/>
        </p:nvSpPr>
        <p:spPr>
          <a:xfrm flipH="1" rot="16200000">
            <a:off x="3456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tting it together (V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42560" y="1305000"/>
            <a:ext cx="5761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Position Pou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de all pouches into position, ensuring that belt passes through BOTH belt loops on the reverse of the pou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2050920" y="1952640"/>
            <a:ext cx="6481800" cy="4724280"/>
            <a:chOff x="2050920" y="1952640"/>
            <a:chExt cx="6481800" cy="4724280"/>
          </a:xfrm>
        </p:grpSpPr>
        <p:sp>
          <p:nvSpPr>
            <p:cNvPr id="482" name=""/>
            <p:cNvSpPr/>
            <p:nvPr/>
          </p:nvSpPr>
          <p:spPr>
            <a:xfrm>
              <a:off x="3780000" y="483228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375240" y="4605120"/>
              <a:ext cx="352440" cy="10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646464"/>
                </a:gs>
                <a:gs pos="100000">
                  <a:srgbClr val="000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402240" y="4632120"/>
              <a:ext cx="289080" cy="52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429240" y="4713120"/>
              <a:ext cx="244440" cy="288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429240" y="4713120"/>
              <a:ext cx="244440" cy="5400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620120" y="4605120"/>
              <a:ext cx="352440" cy="10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646464"/>
                </a:gs>
                <a:gs pos="100000">
                  <a:srgbClr val="000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647120" y="4632120"/>
              <a:ext cx="288720" cy="52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674120" y="4713120"/>
              <a:ext cx="244440" cy="5400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2700000">
              <a:off x="6091560" y="3428280"/>
              <a:ext cx="243000" cy="9205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rot="2700000">
              <a:off x="5739120" y="4070520"/>
              <a:ext cx="247680" cy="32544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efe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 rot="18900000">
              <a:off x="7895880" y="3527280"/>
              <a:ext cx="243000" cy="6145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 rot="18900000">
              <a:off x="8145720" y="3970800"/>
              <a:ext cx="247320" cy="2178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efe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02240" y="3522600"/>
              <a:ext cx="297000" cy="345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448320" y="3762360"/>
              <a:ext cx="206640" cy="193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424560" y="3544920"/>
              <a:ext cx="252360" cy="4284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24560" y="3782880"/>
              <a:ext cx="252360" cy="42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424560" y="3697200"/>
              <a:ext cx="252360" cy="42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9" name=""/>
            <p:cNvGrpSpPr/>
            <p:nvPr/>
          </p:nvGrpSpPr>
          <p:grpSpPr>
            <a:xfrm>
              <a:off x="7648560" y="3549600"/>
              <a:ext cx="297000" cy="433080"/>
              <a:chOff x="7648560" y="3549600"/>
              <a:chExt cx="297000" cy="433080"/>
            </a:xfrm>
          </p:grpSpPr>
          <p:sp>
            <p:nvSpPr>
              <p:cNvPr id="500" name=""/>
              <p:cNvSpPr/>
              <p:nvPr/>
            </p:nvSpPr>
            <p:spPr>
              <a:xfrm>
                <a:off x="7648560" y="3549600"/>
                <a:ext cx="297000" cy="34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694640" y="3787920"/>
                <a:ext cx="206280" cy="194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671600" y="3571200"/>
                <a:ext cx="250560" cy="42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671600" y="3809880"/>
                <a:ext cx="250560" cy="42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671600" y="3723120"/>
                <a:ext cx="250560" cy="42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5" name=""/>
            <p:cNvSpPr/>
            <p:nvPr/>
          </p:nvSpPr>
          <p:spPr>
            <a:xfrm>
              <a:off x="6429240" y="3305160"/>
              <a:ext cx="244440" cy="2444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674120" y="3576600"/>
              <a:ext cx="252360" cy="428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674120" y="3305160"/>
              <a:ext cx="244440" cy="2714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673680" y="2170080"/>
              <a:ext cx="1000440" cy="13525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321600" y="2466720"/>
              <a:ext cx="1704960" cy="135288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321600" y="1952640"/>
              <a:ext cx="1704960" cy="54108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66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429240" y="2170080"/>
              <a:ext cx="1489320" cy="11350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429240" y="3819600"/>
              <a:ext cx="244440" cy="8413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74120" y="3794040"/>
              <a:ext cx="244440" cy="8668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311640" y="4628880"/>
              <a:ext cx="2232000" cy="204804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5" name=""/>
            <p:cNvGrpSpPr/>
            <p:nvPr/>
          </p:nvGrpSpPr>
          <p:grpSpPr>
            <a:xfrm>
              <a:off x="4037040" y="3679560"/>
              <a:ext cx="223920" cy="1076400"/>
              <a:chOff x="4037040" y="3679560"/>
              <a:chExt cx="223920" cy="1076400"/>
            </a:xfrm>
          </p:grpSpPr>
          <p:sp>
            <p:nvSpPr>
              <p:cNvPr id="516" name=""/>
              <p:cNvSpPr/>
              <p:nvPr/>
            </p:nvSpPr>
            <p:spPr>
              <a:xfrm flipV="1">
                <a:off x="4037040" y="3679560"/>
                <a:ext cx="223920" cy="107640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V="1">
                <a:off x="4037040" y="4702680"/>
                <a:ext cx="223920" cy="5328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037040" y="3679560"/>
                <a:ext cx="223920" cy="2664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V="1">
                <a:off x="4037040" y="3679560"/>
                <a:ext cx="223920" cy="107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0" name=""/>
            <p:cNvGrpSpPr/>
            <p:nvPr/>
          </p:nvGrpSpPr>
          <p:grpSpPr>
            <a:xfrm>
              <a:off x="4621320" y="3679560"/>
              <a:ext cx="225360" cy="1076400"/>
              <a:chOff x="4621320" y="3679560"/>
              <a:chExt cx="225360" cy="1076400"/>
            </a:xfrm>
          </p:grpSpPr>
          <p:sp>
            <p:nvSpPr>
              <p:cNvPr id="521" name=""/>
              <p:cNvSpPr/>
              <p:nvPr/>
            </p:nvSpPr>
            <p:spPr>
              <a:xfrm flipV="1">
                <a:off x="4621320" y="3679560"/>
                <a:ext cx="225360" cy="107640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V="1">
                <a:off x="4621320" y="4702680"/>
                <a:ext cx="225360" cy="5328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621320" y="3679560"/>
                <a:ext cx="225360" cy="2664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V="1">
                <a:off x="4621320" y="3679560"/>
                <a:ext cx="225360" cy="107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5" name=""/>
            <p:cNvSpPr/>
            <p:nvPr/>
          </p:nvSpPr>
          <p:spPr>
            <a:xfrm flipV="1">
              <a:off x="4649760" y="3704400"/>
              <a:ext cx="168480" cy="157320"/>
            </a:xfrm>
            <a:prstGeom prst="ellipse">
              <a:avLst/>
            </a:prstGeom>
            <a:gradFill rotWithShape="0">
              <a:gsLst>
                <a:gs pos="0">
                  <a:srgbClr val="424242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091040" y="3986280"/>
              <a:ext cx="112680" cy="769680"/>
            </a:xfrm>
            <a:custGeom>
              <a:avLst/>
              <a:gdLst>
                <a:gd name="textAreaLeft" fmla="*/ 5400 w 112680"/>
                <a:gd name="textAreaRight" fmla="*/ 107280 w 112680"/>
                <a:gd name="textAreaTop" fmla="*/ 5400 h 769680"/>
                <a:gd name="textAreaBottom" fmla="*/ 764280 h 769680"/>
              </a:gdLst>
              <a:ahLst/>
              <a:rect l="textAreaLeft" t="textAreaTop" r="textAreaRight" b="textAreaBottom"/>
              <a:pathLst>
                <a:path w="21600" h="147141">
                  <a:moveTo>
                    <a:pt x="3600" y="0"/>
                  </a:moveTo>
                  <a:arcTo wR="3600" hR="3600" stAng="16200000" swAng="-5400000"/>
                  <a:lnTo>
                    <a:pt x="0" y="143541"/>
                  </a:lnTo>
                  <a:arcTo wR="3600" hR="3600" stAng="10800000" swAng="-5400000"/>
                  <a:lnTo>
                    <a:pt x="18000" y="14714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424242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621320" y="4730760"/>
              <a:ext cx="225360" cy="1076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651200" y="5626080"/>
              <a:ext cx="167040" cy="154080"/>
            </a:xfrm>
            <a:prstGeom prst="ellipse">
              <a:avLst/>
            </a:prstGeom>
            <a:gradFill rotWithShape="0">
              <a:gsLst>
                <a:gs pos="0">
                  <a:srgbClr val="424242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flipV="1">
              <a:off x="4064040" y="3704400"/>
              <a:ext cx="168120" cy="157320"/>
            </a:xfrm>
            <a:prstGeom prst="ellipse">
              <a:avLst/>
            </a:prstGeom>
            <a:gradFill rotWithShape="0">
              <a:gsLst>
                <a:gs pos="0">
                  <a:srgbClr val="424242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037040" y="4730760"/>
              <a:ext cx="223920" cy="1076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065480" y="5626080"/>
              <a:ext cx="166680" cy="154080"/>
            </a:xfrm>
            <a:prstGeom prst="ellipse">
              <a:avLst/>
            </a:prstGeom>
            <a:gradFill rotWithShape="0">
              <a:gsLst>
                <a:gs pos="0">
                  <a:srgbClr val="424242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678200" y="3986280"/>
              <a:ext cx="113040" cy="769680"/>
            </a:xfrm>
            <a:custGeom>
              <a:avLst/>
              <a:gdLst>
                <a:gd name="textAreaLeft" fmla="*/ 5400 w 113040"/>
                <a:gd name="textAreaRight" fmla="*/ 107640 w 113040"/>
                <a:gd name="textAreaTop" fmla="*/ 5400 h 769680"/>
                <a:gd name="textAreaBottom" fmla="*/ 764280 h 769680"/>
              </a:gdLst>
              <a:ahLst/>
              <a:rect l="textAreaLeft" t="textAreaTop" r="textAreaRight" b="textAreaBottom"/>
              <a:pathLst>
                <a:path w="21600" h="146674">
                  <a:moveTo>
                    <a:pt x="3600" y="0"/>
                  </a:moveTo>
                  <a:arcTo wR="3600" hR="3600" stAng="16200000" swAng="-5400000"/>
                  <a:lnTo>
                    <a:pt x="0" y="143074"/>
                  </a:lnTo>
                  <a:arcTo wR="3600" hR="3600" stAng="10800000" swAng="-5400000"/>
                  <a:lnTo>
                    <a:pt x="18000" y="1466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424242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268360" y="4767120"/>
              <a:ext cx="6000840" cy="82080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4" name=""/>
            <p:cNvGrpSpPr/>
            <p:nvPr/>
          </p:nvGrpSpPr>
          <p:grpSpPr>
            <a:xfrm>
              <a:off x="3478320" y="3962160"/>
              <a:ext cx="558720" cy="614520"/>
              <a:chOff x="3478320" y="3962160"/>
              <a:chExt cx="558720" cy="614520"/>
            </a:xfrm>
          </p:grpSpPr>
          <p:sp>
            <p:nvSpPr>
              <p:cNvPr id="535" name=""/>
              <p:cNvSpPr/>
              <p:nvPr/>
            </p:nvSpPr>
            <p:spPr>
              <a:xfrm>
                <a:off x="3478320" y="3962160"/>
                <a:ext cx="558720" cy="6145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646464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528360" y="4115520"/>
                <a:ext cx="456840" cy="410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528360" y="4012560"/>
                <a:ext cx="456840" cy="518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"/>
            <p:cNvGrpSpPr/>
            <p:nvPr/>
          </p:nvGrpSpPr>
          <p:grpSpPr>
            <a:xfrm>
              <a:off x="4842000" y="3968640"/>
              <a:ext cx="558720" cy="614520"/>
              <a:chOff x="4842000" y="3968640"/>
              <a:chExt cx="558720" cy="614520"/>
            </a:xfrm>
          </p:grpSpPr>
          <p:sp>
            <p:nvSpPr>
              <p:cNvPr id="539" name=""/>
              <p:cNvSpPr/>
              <p:nvPr/>
            </p:nvSpPr>
            <p:spPr>
              <a:xfrm>
                <a:off x="4842000" y="3968640"/>
                <a:ext cx="558720" cy="6145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646464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892040" y="4122000"/>
                <a:ext cx="456840" cy="410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892040" y="4019040"/>
                <a:ext cx="456840" cy="518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2" name=""/>
            <p:cNvSpPr/>
            <p:nvPr/>
          </p:nvSpPr>
          <p:spPr>
            <a:xfrm flipH="1">
              <a:off x="8236080" y="4757760"/>
              <a:ext cx="296640" cy="830160"/>
            </a:xfrm>
            <a:prstGeom prst="rect">
              <a:avLst/>
            </a:prstGeom>
            <a:gradFill rotWithShape="0">
              <a:gsLst>
                <a:gs pos="0">
                  <a:srgbClr val="669900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050920" y="4760640"/>
              <a:ext cx="252720" cy="830520"/>
            </a:xfrm>
            <a:prstGeom prst="rect">
              <a:avLst/>
            </a:prstGeom>
            <a:gradFill rotWithShape="0">
              <a:gsLst>
                <a:gs pos="0">
                  <a:srgbClr val="669900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484360" y="4832280"/>
              <a:ext cx="17964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095640" y="483228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808360" y="483228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382920" y="483228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068720" y="483228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356000" y="4832280"/>
              <a:ext cx="17964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45080" y="483228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932360" y="483228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364000" y="4832280"/>
              <a:ext cx="17964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688000" y="483228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013440" y="483228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337440" y="483228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689960" y="4713120"/>
              <a:ext cx="244440" cy="288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689960" y="4713120"/>
              <a:ext cx="244440" cy="5400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659640" y="483228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985080" y="483228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308720" y="4832280"/>
              <a:ext cx="17964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632720" y="483228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956720" y="483228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816360" y="483228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4" name=""/>
            <p:cNvGrpSpPr/>
            <p:nvPr/>
          </p:nvGrpSpPr>
          <p:grpSpPr>
            <a:xfrm>
              <a:off x="3591000" y="4475160"/>
              <a:ext cx="334800" cy="2047680"/>
              <a:chOff x="3591000" y="4475160"/>
              <a:chExt cx="334800" cy="2047680"/>
            </a:xfrm>
          </p:grpSpPr>
          <p:sp>
            <p:nvSpPr>
              <p:cNvPr id="565" name=""/>
              <p:cNvSpPr/>
              <p:nvPr/>
            </p:nvSpPr>
            <p:spPr>
              <a:xfrm>
                <a:off x="3591000" y="4475160"/>
                <a:ext cx="334800" cy="204768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591000" y="4475160"/>
                <a:ext cx="334800" cy="10152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591000" y="473076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V="1">
                <a:off x="3591000" y="467928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591000" y="565308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V="1">
                <a:off x="3591000" y="560160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V="1">
                <a:off x="3591000" y="647136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591000" y="4730760"/>
                <a:ext cx="334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591000" y="5653080"/>
                <a:ext cx="334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3591000" y="4475160"/>
                <a:ext cx="334800" cy="2047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4954680" y="4481280"/>
              <a:ext cx="334800" cy="2048040"/>
              <a:chOff x="4954680" y="4481280"/>
              <a:chExt cx="334800" cy="2048040"/>
            </a:xfrm>
          </p:grpSpPr>
          <p:sp>
            <p:nvSpPr>
              <p:cNvPr id="576" name=""/>
              <p:cNvSpPr/>
              <p:nvPr/>
            </p:nvSpPr>
            <p:spPr>
              <a:xfrm>
                <a:off x="4954680" y="4481280"/>
                <a:ext cx="334800" cy="204804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954680" y="4481280"/>
                <a:ext cx="334800" cy="10188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4954680" y="473688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V="1">
                <a:off x="4954680" y="468540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954680" y="565920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V="1">
                <a:off x="4954680" y="560772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V="1">
                <a:off x="4954680" y="647784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954680" y="4736880"/>
                <a:ext cx="334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954680" y="5659200"/>
                <a:ext cx="334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954680" y="4481280"/>
                <a:ext cx="334800" cy="2048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6" name=""/>
          <p:cNvSpPr txBox="1"/>
          <p:nvPr/>
        </p:nvSpPr>
        <p:spPr>
          <a:xfrm>
            <a:off x="6480000" y="3968640"/>
            <a:ext cx="10800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7740720" y="3968640"/>
            <a:ext cx="10800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6156360" y="3789360"/>
            <a:ext cx="10800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8064360" y="3824280"/>
            <a:ext cx="10800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590" name=""/>
          <p:cNvSpPr/>
          <p:nvPr/>
        </p:nvSpPr>
        <p:spPr>
          <a:xfrm>
            <a:off x="393840" y="6416640"/>
            <a:ext cx="1153800" cy="3603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up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>
            <a:hlinkClick r:id="" action="ppaction://hlinkshowjump?jump=nextslide"/>
          </p:cNvPr>
          <p:cNvSpPr/>
          <p:nvPr/>
        </p:nvSpPr>
        <p:spPr>
          <a:xfrm rot="5400000">
            <a:off x="1548360" y="6452280"/>
            <a:ext cx="358920" cy="287280"/>
          </a:xfrm>
          <a:prstGeom prst="triangle">
            <a:avLst>
              <a:gd name="adj" fmla="val 500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>
            <a:hlinkClick r:id="" action="ppaction://hlinkshowjump?jump=previousslide"/>
          </p:cNvPr>
          <p:cNvSpPr/>
          <p:nvPr/>
        </p:nvSpPr>
        <p:spPr>
          <a:xfrm flipH="1" rot="16200000">
            <a:off x="3456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hat is PL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History of PL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PLCE Ver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Complete Webbing set &amp; component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Setting up webb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Further Webbing Equi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7" action="ppaction://hlinksldjump"/>
          </p:cNvPr>
          <p:cNvSpPr/>
          <p:nvPr/>
        </p:nvSpPr>
        <p:spPr>
          <a:xfrm>
            <a:off x="393840" y="6416640"/>
            <a:ext cx="1117440" cy="3603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 rot="5400000">
            <a:off x="151164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" action="ppaction://hlinkshowjump?jump=previousslide"/>
          </p:cNvPr>
          <p:cNvSpPr/>
          <p:nvPr/>
        </p:nvSpPr>
        <p:spPr>
          <a:xfrm flipH="1" rot="16200000">
            <a:off x="3456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tting it together (V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42560" y="1413000"/>
            <a:ext cx="5761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Fixing pou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 belt locator pins into be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2050920" y="1665360"/>
            <a:ext cx="6481800" cy="4724280"/>
            <a:chOff x="2050920" y="1665360"/>
            <a:chExt cx="6481800" cy="4724280"/>
          </a:xfrm>
        </p:grpSpPr>
        <p:sp>
          <p:nvSpPr>
            <p:cNvPr id="596" name=""/>
            <p:cNvSpPr/>
            <p:nvPr/>
          </p:nvSpPr>
          <p:spPr>
            <a:xfrm>
              <a:off x="3780000" y="454500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375240" y="4317840"/>
              <a:ext cx="352440" cy="10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646464"/>
                </a:gs>
                <a:gs pos="100000">
                  <a:srgbClr val="000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402240" y="4344840"/>
              <a:ext cx="289080" cy="52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429240" y="4425840"/>
              <a:ext cx="244440" cy="288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429240" y="4425840"/>
              <a:ext cx="244440" cy="5400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620120" y="4317840"/>
              <a:ext cx="352440" cy="10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646464"/>
                </a:gs>
                <a:gs pos="100000">
                  <a:srgbClr val="000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647120" y="4344840"/>
              <a:ext cx="288720" cy="52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674120" y="4425840"/>
              <a:ext cx="244440" cy="5400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2700000">
              <a:off x="6091560" y="3141000"/>
              <a:ext cx="243000" cy="9205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2700000">
              <a:off x="5739120" y="3783240"/>
              <a:ext cx="247680" cy="32544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efe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 rot="18900000">
              <a:off x="7895880" y="3240000"/>
              <a:ext cx="243000" cy="6145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 rot="18900000">
              <a:off x="8145720" y="3683520"/>
              <a:ext cx="247320" cy="2178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efe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402240" y="3235320"/>
              <a:ext cx="297000" cy="345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448320" y="3475080"/>
              <a:ext cx="206640" cy="193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424560" y="3257640"/>
              <a:ext cx="252360" cy="4284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424560" y="3495600"/>
              <a:ext cx="252360" cy="42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424560" y="3409920"/>
              <a:ext cx="252360" cy="42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3" name=""/>
            <p:cNvGrpSpPr/>
            <p:nvPr/>
          </p:nvGrpSpPr>
          <p:grpSpPr>
            <a:xfrm>
              <a:off x="7648560" y="3262320"/>
              <a:ext cx="297000" cy="433080"/>
              <a:chOff x="7648560" y="3262320"/>
              <a:chExt cx="297000" cy="433080"/>
            </a:xfrm>
          </p:grpSpPr>
          <p:sp>
            <p:nvSpPr>
              <p:cNvPr id="614" name=""/>
              <p:cNvSpPr/>
              <p:nvPr/>
            </p:nvSpPr>
            <p:spPr>
              <a:xfrm>
                <a:off x="7648560" y="3262320"/>
                <a:ext cx="297000" cy="34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694640" y="3500640"/>
                <a:ext cx="206280" cy="194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7671600" y="3283920"/>
                <a:ext cx="250560" cy="42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671600" y="3522600"/>
                <a:ext cx="250560" cy="42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7671600" y="3435840"/>
                <a:ext cx="250560" cy="42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9" name=""/>
            <p:cNvSpPr/>
            <p:nvPr/>
          </p:nvSpPr>
          <p:spPr>
            <a:xfrm>
              <a:off x="6429240" y="3017880"/>
              <a:ext cx="244440" cy="2444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674120" y="3289320"/>
              <a:ext cx="252360" cy="428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74120" y="3017880"/>
              <a:ext cx="244440" cy="2714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673680" y="1882800"/>
              <a:ext cx="1000440" cy="13525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321600" y="2179440"/>
              <a:ext cx="1704960" cy="135288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321600" y="1665360"/>
              <a:ext cx="1704960" cy="54108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66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429240" y="1882800"/>
              <a:ext cx="1489320" cy="11350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429240" y="3532320"/>
              <a:ext cx="244440" cy="8413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674120" y="3506760"/>
              <a:ext cx="244440" cy="8668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311640" y="4341600"/>
              <a:ext cx="2232000" cy="204804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9" name=""/>
            <p:cNvGrpSpPr/>
            <p:nvPr/>
          </p:nvGrpSpPr>
          <p:grpSpPr>
            <a:xfrm>
              <a:off x="4621320" y="3392280"/>
              <a:ext cx="225360" cy="1076400"/>
              <a:chOff x="4621320" y="3392280"/>
              <a:chExt cx="225360" cy="1076400"/>
            </a:xfrm>
          </p:grpSpPr>
          <p:sp>
            <p:nvSpPr>
              <p:cNvPr id="630" name=""/>
              <p:cNvSpPr/>
              <p:nvPr/>
            </p:nvSpPr>
            <p:spPr>
              <a:xfrm flipV="1">
                <a:off x="4621320" y="3392280"/>
                <a:ext cx="225360" cy="107640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V="1">
                <a:off x="4621320" y="4415400"/>
                <a:ext cx="225360" cy="5328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4621320" y="3392280"/>
                <a:ext cx="225360" cy="2664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V="1">
                <a:off x="4621320" y="3392280"/>
                <a:ext cx="225360" cy="107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4" name=""/>
            <p:cNvSpPr/>
            <p:nvPr/>
          </p:nvSpPr>
          <p:spPr>
            <a:xfrm flipV="1">
              <a:off x="4649760" y="3417120"/>
              <a:ext cx="168480" cy="157320"/>
            </a:xfrm>
            <a:prstGeom prst="ellipse">
              <a:avLst/>
            </a:prstGeom>
            <a:gradFill rotWithShape="0">
              <a:gsLst>
                <a:gs pos="0">
                  <a:srgbClr val="424242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621320" y="4443480"/>
              <a:ext cx="225360" cy="1076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651200" y="5338800"/>
              <a:ext cx="167040" cy="154080"/>
            </a:xfrm>
            <a:prstGeom prst="ellipse">
              <a:avLst/>
            </a:prstGeom>
            <a:gradFill rotWithShape="0">
              <a:gsLst>
                <a:gs pos="0">
                  <a:srgbClr val="424242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268360" y="4479840"/>
              <a:ext cx="6000840" cy="82080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8" name=""/>
            <p:cNvGrpSpPr/>
            <p:nvPr/>
          </p:nvGrpSpPr>
          <p:grpSpPr>
            <a:xfrm>
              <a:off x="3478320" y="3674880"/>
              <a:ext cx="558720" cy="614520"/>
              <a:chOff x="3478320" y="3674880"/>
              <a:chExt cx="558720" cy="614520"/>
            </a:xfrm>
          </p:grpSpPr>
          <p:sp>
            <p:nvSpPr>
              <p:cNvPr id="639" name=""/>
              <p:cNvSpPr/>
              <p:nvPr/>
            </p:nvSpPr>
            <p:spPr>
              <a:xfrm>
                <a:off x="3478320" y="3674880"/>
                <a:ext cx="558720" cy="6145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646464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3528360" y="3828240"/>
                <a:ext cx="456840" cy="410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3528360" y="3725280"/>
                <a:ext cx="456840" cy="518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2" name=""/>
            <p:cNvGrpSpPr/>
            <p:nvPr/>
          </p:nvGrpSpPr>
          <p:grpSpPr>
            <a:xfrm>
              <a:off x="4842000" y="3681360"/>
              <a:ext cx="558720" cy="614520"/>
              <a:chOff x="4842000" y="3681360"/>
              <a:chExt cx="558720" cy="614520"/>
            </a:xfrm>
          </p:grpSpPr>
          <p:sp>
            <p:nvSpPr>
              <p:cNvPr id="643" name=""/>
              <p:cNvSpPr/>
              <p:nvPr/>
            </p:nvSpPr>
            <p:spPr>
              <a:xfrm>
                <a:off x="4842000" y="3681360"/>
                <a:ext cx="558720" cy="6145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646464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4892040" y="3834720"/>
                <a:ext cx="456840" cy="410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892040" y="3731760"/>
                <a:ext cx="456840" cy="518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6" name=""/>
            <p:cNvSpPr/>
            <p:nvPr/>
          </p:nvSpPr>
          <p:spPr>
            <a:xfrm flipH="1">
              <a:off x="8236080" y="4470480"/>
              <a:ext cx="296640" cy="830160"/>
            </a:xfrm>
            <a:prstGeom prst="rect">
              <a:avLst/>
            </a:prstGeom>
            <a:gradFill rotWithShape="0">
              <a:gsLst>
                <a:gs pos="0">
                  <a:srgbClr val="669900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050920" y="4473360"/>
              <a:ext cx="252720" cy="830520"/>
            </a:xfrm>
            <a:prstGeom prst="rect">
              <a:avLst/>
            </a:prstGeom>
            <a:gradFill rotWithShape="0">
              <a:gsLst>
                <a:gs pos="0">
                  <a:srgbClr val="669900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484360" y="4545000"/>
              <a:ext cx="17964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095640" y="454500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808360" y="454500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382920" y="454500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356000" y="4545000"/>
              <a:ext cx="17964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932360" y="454500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364000" y="4545000"/>
              <a:ext cx="17964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688000" y="454500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013440" y="454500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337440" y="454500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689960" y="4425840"/>
              <a:ext cx="244440" cy="288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689960" y="4425840"/>
              <a:ext cx="244440" cy="5400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659640" y="454500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985080" y="454500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308720" y="4545000"/>
              <a:ext cx="17964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632720" y="454500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956720" y="454500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816360" y="454500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6" name=""/>
            <p:cNvGrpSpPr/>
            <p:nvPr/>
          </p:nvGrpSpPr>
          <p:grpSpPr>
            <a:xfrm>
              <a:off x="3591000" y="4187880"/>
              <a:ext cx="334800" cy="2047680"/>
              <a:chOff x="3591000" y="4187880"/>
              <a:chExt cx="334800" cy="2047680"/>
            </a:xfrm>
          </p:grpSpPr>
          <p:sp>
            <p:nvSpPr>
              <p:cNvPr id="667" name=""/>
              <p:cNvSpPr/>
              <p:nvPr/>
            </p:nvSpPr>
            <p:spPr>
              <a:xfrm>
                <a:off x="3591000" y="4187880"/>
                <a:ext cx="334800" cy="204768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3591000" y="4187880"/>
                <a:ext cx="334800" cy="10152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3591000" y="444348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flipV="1">
                <a:off x="3591000" y="439200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591000" y="536580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V="1">
                <a:off x="3591000" y="531432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V="1">
                <a:off x="3591000" y="618408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591000" y="4443480"/>
                <a:ext cx="334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591000" y="5365800"/>
                <a:ext cx="334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591000" y="4187880"/>
                <a:ext cx="334800" cy="2047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7" name=""/>
            <p:cNvGrpSpPr/>
            <p:nvPr/>
          </p:nvGrpSpPr>
          <p:grpSpPr>
            <a:xfrm>
              <a:off x="4954680" y="4194000"/>
              <a:ext cx="334800" cy="2048040"/>
              <a:chOff x="4954680" y="4194000"/>
              <a:chExt cx="334800" cy="2048040"/>
            </a:xfrm>
          </p:grpSpPr>
          <p:sp>
            <p:nvSpPr>
              <p:cNvPr id="678" name=""/>
              <p:cNvSpPr/>
              <p:nvPr/>
            </p:nvSpPr>
            <p:spPr>
              <a:xfrm>
                <a:off x="4954680" y="4194000"/>
                <a:ext cx="334800" cy="204804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954680" y="4194000"/>
                <a:ext cx="334800" cy="10188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954680" y="444960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flipV="1">
                <a:off x="4954680" y="439812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4954680" y="537192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V="1">
                <a:off x="4954680" y="532044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V="1">
                <a:off x="4954680" y="619056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954680" y="4449600"/>
                <a:ext cx="334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4954680" y="5371920"/>
                <a:ext cx="334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4954680" y="4194000"/>
                <a:ext cx="334800" cy="2048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8" name=""/>
            <p:cNvSpPr/>
            <p:nvPr/>
          </p:nvSpPr>
          <p:spPr>
            <a:xfrm>
              <a:off x="4678200" y="4386240"/>
              <a:ext cx="113040" cy="770040"/>
            </a:xfrm>
            <a:custGeom>
              <a:avLst/>
              <a:gdLst>
                <a:gd name="textAreaLeft" fmla="*/ 5400 w 113040"/>
                <a:gd name="textAreaRight" fmla="*/ 107640 w 113040"/>
                <a:gd name="textAreaTop" fmla="*/ 5400 h 770040"/>
                <a:gd name="textAreaBottom" fmla="*/ 764640 h 770040"/>
              </a:gdLst>
              <a:ahLst/>
              <a:rect l="textAreaLeft" t="textAreaTop" r="textAreaRight" b="textAreaBottom"/>
              <a:pathLst>
                <a:path w="21600" h="146743">
                  <a:moveTo>
                    <a:pt x="3600" y="0"/>
                  </a:moveTo>
                  <a:arcTo wR="3600" hR="3600" stAng="16200000" swAng="-5400000"/>
                  <a:lnTo>
                    <a:pt x="0" y="143143"/>
                  </a:lnTo>
                  <a:arcTo wR="3600" hR="3600" stAng="10800000" swAng="-5400000"/>
                  <a:lnTo>
                    <a:pt x="18000" y="1467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424242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645080" y="4545000"/>
              <a:ext cx="179280" cy="684000"/>
            </a:xfrm>
            <a:prstGeom prst="rect">
              <a:avLst/>
            </a:prstGeom>
            <a:gradFill rotWithShape="0">
              <a:gsLst>
                <a:gs pos="0">
                  <a:srgbClr val="385500"/>
                </a:gs>
                <a:gs pos="50000">
                  <a:srgbClr val="669900"/>
                </a:gs>
                <a:gs pos="100000">
                  <a:srgbClr val="385500"/>
                </a:gs>
              </a:gsLst>
              <a:lin ang="10800000"/>
            </a:gradFill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0" name=""/>
            <p:cNvGrpSpPr/>
            <p:nvPr/>
          </p:nvGrpSpPr>
          <p:grpSpPr>
            <a:xfrm>
              <a:off x="4067280" y="3392280"/>
              <a:ext cx="225360" cy="1076400"/>
              <a:chOff x="4067280" y="3392280"/>
              <a:chExt cx="225360" cy="1076400"/>
            </a:xfrm>
          </p:grpSpPr>
          <p:sp>
            <p:nvSpPr>
              <p:cNvPr id="691" name=""/>
              <p:cNvSpPr/>
              <p:nvPr/>
            </p:nvSpPr>
            <p:spPr>
              <a:xfrm flipV="1">
                <a:off x="4067280" y="3392280"/>
                <a:ext cx="225360" cy="107640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V="1">
                <a:off x="4067280" y="4415400"/>
                <a:ext cx="225360" cy="5328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4067280" y="3392280"/>
                <a:ext cx="225360" cy="2664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V="1">
                <a:off x="4067280" y="3392280"/>
                <a:ext cx="225360" cy="107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5" name=""/>
            <p:cNvSpPr/>
            <p:nvPr/>
          </p:nvSpPr>
          <p:spPr>
            <a:xfrm flipV="1">
              <a:off x="4095720" y="3417120"/>
              <a:ext cx="168480" cy="157320"/>
            </a:xfrm>
            <a:prstGeom prst="ellipse">
              <a:avLst/>
            </a:prstGeom>
            <a:gradFill rotWithShape="0">
              <a:gsLst>
                <a:gs pos="0">
                  <a:srgbClr val="424242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067280" y="4443480"/>
              <a:ext cx="225360" cy="1076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097160" y="5338800"/>
              <a:ext cx="167040" cy="154080"/>
            </a:xfrm>
            <a:prstGeom prst="ellipse">
              <a:avLst/>
            </a:prstGeom>
            <a:gradFill rotWithShape="0">
              <a:gsLst>
                <a:gs pos="0">
                  <a:srgbClr val="424242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124160" y="4386240"/>
              <a:ext cx="113040" cy="770040"/>
            </a:xfrm>
            <a:custGeom>
              <a:avLst/>
              <a:gdLst>
                <a:gd name="textAreaLeft" fmla="*/ 5400 w 113040"/>
                <a:gd name="textAreaRight" fmla="*/ 107640 w 113040"/>
                <a:gd name="textAreaTop" fmla="*/ 5400 h 770040"/>
                <a:gd name="textAreaBottom" fmla="*/ 764640 h 770040"/>
              </a:gdLst>
              <a:ahLst/>
              <a:rect l="textAreaLeft" t="textAreaTop" r="textAreaRight" b="textAreaBottom"/>
              <a:pathLst>
                <a:path w="21600" h="146743">
                  <a:moveTo>
                    <a:pt x="3600" y="0"/>
                  </a:moveTo>
                  <a:arcTo wR="3600" hR="3600" stAng="16200000" swAng="-5400000"/>
                  <a:lnTo>
                    <a:pt x="0" y="143143"/>
                  </a:lnTo>
                  <a:arcTo wR="3600" hR="3600" stAng="10800000" swAng="-5400000"/>
                  <a:lnTo>
                    <a:pt x="18000" y="1467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424242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091040" y="4545000"/>
              <a:ext cx="179280" cy="684000"/>
            </a:xfrm>
            <a:prstGeom prst="rect">
              <a:avLst/>
            </a:prstGeom>
            <a:gradFill rotWithShape="0">
              <a:gsLst>
                <a:gs pos="0">
                  <a:srgbClr val="385500"/>
                </a:gs>
                <a:gs pos="50000">
                  <a:srgbClr val="669900"/>
                </a:gs>
                <a:gs pos="100000">
                  <a:srgbClr val="385500"/>
                </a:gs>
              </a:gsLst>
              <a:lin ang="10800000"/>
            </a:gradFill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0" name=""/>
          <p:cNvSpPr txBox="1"/>
          <p:nvPr/>
        </p:nvSpPr>
        <p:spPr>
          <a:xfrm>
            <a:off x="6480000" y="3679920"/>
            <a:ext cx="108000" cy="18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7740720" y="3679920"/>
            <a:ext cx="108000" cy="18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6156360" y="3500280"/>
            <a:ext cx="10800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8064360" y="3535200"/>
            <a:ext cx="10800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704" name="">
            <a:hlinkClick r:id="rId3" action="ppaction://hlinksldjump"/>
          </p:cNvPr>
          <p:cNvSpPr/>
          <p:nvPr/>
        </p:nvSpPr>
        <p:spPr>
          <a:xfrm>
            <a:off x="393840" y="6416640"/>
            <a:ext cx="1153800" cy="3603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up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>
            <a:hlinkClick r:id="" action="ppaction://hlinkshowjump?jump=nextslide"/>
          </p:cNvPr>
          <p:cNvSpPr/>
          <p:nvPr/>
        </p:nvSpPr>
        <p:spPr>
          <a:xfrm rot="5400000">
            <a:off x="1548360" y="6452280"/>
            <a:ext cx="358920" cy="287280"/>
          </a:xfrm>
          <a:prstGeom prst="triangle">
            <a:avLst>
              <a:gd name="adj" fmla="val 50000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>
            <a:hlinkClick r:id="" action="ppaction://hlinkshowjump?jump=previousslide"/>
          </p:cNvPr>
          <p:cNvSpPr/>
          <p:nvPr/>
        </p:nvSpPr>
        <p:spPr>
          <a:xfrm flipH="1" rot="16200000">
            <a:off x="3456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tting it together (V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42560" y="1413000"/>
            <a:ext cx="5761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Fixing pou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webbing loops over locator pins and fasten down using stu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process on each po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" name=""/>
          <p:cNvGrpSpPr/>
          <p:nvPr/>
        </p:nvGrpSpPr>
        <p:grpSpPr>
          <a:xfrm>
            <a:off x="2050920" y="1916280"/>
            <a:ext cx="6481800" cy="4724280"/>
            <a:chOff x="2050920" y="1916280"/>
            <a:chExt cx="6481800" cy="4724280"/>
          </a:xfrm>
        </p:grpSpPr>
        <p:sp>
          <p:nvSpPr>
            <p:cNvPr id="710" name=""/>
            <p:cNvSpPr/>
            <p:nvPr/>
          </p:nvSpPr>
          <p:spPr>
            <a:xfrm>
              <a:off x="3780000" y="479592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375240" y="4568760"/>
              <a:ext cx="352440" cy="10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646464"/>
                </a:gs>
                <a:gs pos="100000">
                  <a:srgbClr val="000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402240" y="4595760"/>
              <a:ext cx="289080" cy="52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429240" y="4676760"/>
              <a:ext cx="244440" cy="288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429240" y="4676760"/>
              <a:ext cx="244440" cy="5400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620120" y="4568760"/>
              <a:ext cx="352440" cy="10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646464"/>
                </a:gs>
                <a:gs pos="100000">
                  <a:srgbClr val="000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647120" y="4595760"/>
              <a:ext cx="288720" cy="52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674120" y="4676760"/>
              <a:ext cx="244440" cy="5400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 rot="2700000">
              <a:off x="6091560" y="3391920"/>
              <a:ext cx="243000" cy="9205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 rot="2700000">
              <a:off x="5739120" y="4034160"/>
              <a:ext cx="247680" cy="32544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efe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 rot="18900000">
              <a:off x="7895880" y="3490920"/>
              <a:ext cx="243000" cy="6145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 rot="18900000">
              <a:off x="8145720" y="3934440"/>
              <a:ext cx="247320" cy="2178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efe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402240" y="3486240"/>
              <a:ext cx="297000" cy="345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448320" y="3726000"/>
              <a:ext cx="206640" cy="193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424560" y="3508560"/>
              <a:ext cx="252360" cy="4284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424560" y="3746520"/>
              <a:ext cx="252360" cy="42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424560" y="3660840"/>
              <a:ext cx="252360" cy="42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7" name=""/>
            <p:cNvGrpSpPr/>
            <p:nvPr/>
          </p:nvGrpSpPr>
          <p:grpSpPr>
            <a:xfrm>
              <a:off x="7648560" y="3513240"/>
              <a:ext cx="297000" cy="433080"/>
              <a:chOff x="7648560" y="3513240"/>
              <a:chExt cx="297000" cy="433080"/>
            </a:xfrm>
          </p:grpSpPr>
          <p:sp>
            <p:nvSpPr>
              <p:cNvPr id="728" name=""/>
              <p:cNvSpPr/>
              <p:nvPr/>
            </p:nvSpPr>
            <p:spPr>
              <a:xfrm>
                <a:off x="7648560" y="3513240"/>
                <a:ext cx="297000" cy="34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694640" y="3751560"/>
                <a:ext cx="206280" cy="194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671600" y="3534840"/>
                <a:ext cx="250560" cy="42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671600" y="3773520"/>
                <a:ext cx="250560" cy="42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671600" y="3686760"/>
                <a:ext cx="250560" cy="42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3" name=""/>
            <p:cNvSpPr/>
            <p:nvPr/>
          </p:nvSpPr>
          <p:spPr>
            <a:xfrm>
              <a:off x="6429240" y="3268800"/>
              <a:ext cx="244440" cy="2444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674120" y="3540240"/>
              <a:ext cx="252360" cy="428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674120" y="3268800"/>
              <a:ext cx="244440" cy="2714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673680" y="2133720"/>
              <a:ext cx="1000440" cy="13525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321600" y="2430360"/>
              <a:ext cx="1704960" cy="135288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321600" y="1916280"/>
              <a:ext cx="1704960" cy="54108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66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429240" y="2133720"/>
              <a:ext cx="1489320" cy="11350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429240" y="3783240"/>
              <a:ext cx="244440" cy="8413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674120" y="3757680"/>
              <a:ext cx="244440" cy="8668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311640" y="4592520"/>
              <a:ext cx="2232000" cy="204804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037040" y="4694400"/>
              <a:ext cx="223920" cy="1076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065480" y="5589720"/>
              <a:ext cx="166680" cy="154080"/>
            </a:xfrm>
            <a:prstGeom prst="ellipse">
              <a:avLst/>
            </a:prstGeom>
            <a:gradFill rotWithShape="0">
              <a:gsLst>
                <a:gs pos="0">
                  <a:srgbClr val="424242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268360" y="4730760"/>
              <a:ext cx="6000840" cy="82080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6" name=""/>
            <p:cNvGrpSpPr/>
            <p:nvPr/>
          </p:nvGrpSpPr>
          <p:grpSpPr>
            <a:xfrm>
              <a:off x="3478320" y="3925800"/>
              <a:ext cx="558720" cy="614520"/>
              <a:chOff x="3478320" y="3925800"/>
              <a:chExt cx="558720" cy="614520"/>
            </a:xfrm>
          </p:grpSpPr>
          <p:sp>
            <p:nvSpPr>
              <p:cNvPr id="747" name=""/>
              <p:cNvSpPr/>
              <p:nvPr/>
            </p:nvSpPr>
            <p:spPr>
              <a:xfrm>
                <a:off x="3478320" y="3925800"/>
                <a:ext cx="558720" cy="6145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646464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528360" y="4079160"/>
                <a:ext cx="456840" cy="410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528360" y="3976200"/>
                <a:ext cx="456840" cy="518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0" name=""/>
            <p:cNvGrpSpPr/>
            <p:nvPr/>
          </p:nvGrpSpPr>
          <p:grpSpPr>
            <a:xfrm>
              <a:off x="4842000" y="3932280"/>
              <a:ext cx="558720" cy="614520"/>
              <a:chOff x="4842000" y="3932280"/>
              <a:chExt cx="558720" cy="614520"/>
            </a:xfrm>
          </p:grpSpPr>
          <p:sp>
            <p:nvSpPr>
              <p:cNvPr id="751" name=""/>
              <p:cNvSpPr/>
              <p:nvPr/>
            </p:nvSpPr>
            <p:spPr>
              <a:xfrm>
                <a:off x="4842000" y="3932280"/>
                <a:ext cx="558720" cy="6145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646464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4892040" y="4085640"/>
                <a:ext cx="456840" cy="410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4892040" y="3982680"/>
                <a:ext cx="456840" cy="518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4" name=""/>
            <p:cNvSpPr/>
            <p:nvPr/>
          </p:nvSpPr>
          <p:spPr>
            <a:xfrm flipH="1">
              <a:off x="8236080" y="4721400"/>
              <a:ext cx="296640" cy="830160"/>
            </a:xfrm>
            <a:prstGeom prst="rect">
              <a:avLst/>
            </a:prstGeom>
            <a:gradFill rotWithShape="0">
              <a:gsLst>
                <a:gs pos="0">
                  <a:srgbClr val="669900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050920" y="4724280"/>
              <a:ext cx="252720" cy="830520"/>
            </a:xfrm>
            <a:prstGeom prst="rect">
              <a:avLst/>
            </a:prstGeom>
            <a:gradFill rotWithShape="0">
              <a:gsLst>
                <a:gs pos="0">
                  <a:srgbClr val="669900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484360" y="4795920"/>
              <a:ext cx="17964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095640" y="479592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808360" y="479592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382920" y="479592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068720" y="479592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356000" y="4795920"/>
              <a:ext cx="17964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932360" y="479592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364000" y="4795920"/>
              <a:ext cx="17964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688000" y="479592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13440" y="479592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337440" y="479592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689960" y="4676760"/>
              <a:ext cx="244440" cy="288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689960" y="4676760"/>
              <a:ext cx="244440" cy="5400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659640" y="479592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985080" y="479592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308720" y="4795920"/>
              <a:ext cx="17964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632720" y="479592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956720" y="479592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816360" y="479592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5" name=""/>
            <p:cNvGrpSpPr/>
            <p:nvPr/>
          </p:nvGrpSpPr>
          <p:grpSpPr>
            <a:xfrm>
              <a:off x="3591000" y="4438800"/>
              <a:ext cx="334800" cy="2047680"/>
              <a:chOff x="3591000" y="4438800"/>
              <a:chExt cx="334800" cy="2047680"/>
            </a:xfrm>
          </p:grpSpPr>
          <p:sp>
            <p:nvSpPr>
              <p:cNvPr id="776" name=""/>
              <p:cNvSpPr/>
              <p:nvPr/>
            </p:nvSpPr>
            <p:spPr>
              <a:xfrm>
                <a:off x="3591000" y="4438800"/>
                <a:ext cx="334800" cy="204768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591000" y="4438800"/>
                <a:ext cx="334800" cy="10152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591000" y="469440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V="1">
                <a:off x="3591000" y="464292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591000" y="561672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flipV="1">
                <a:off x="3591000" y="556524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flipV="1">
                <a:off x="3591000" y="643500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3591000" y="4694400"/>
                <a:ext cx="334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591000" y="5616720"/>
                <a:ext cx="334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591000" y="4438800"/>
                <a:ext cx="334800" cy="2047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"/>
            <p:cNvGrpSpPr/>
            <p:nvPr/>
          </p:nvGrpSpPr>
          <p:grpSpPr>
            <a:xfrm>
              <a:off x="4954680" y="4444920"/>
              <a:ext cx="334800" cy="2048040"/>
              <a:chOff x="4954680" y="4444920"/>
              <a:chExt cx="334800" cy="2048040"/>
            </a:xfrm>
          </p:grpSpPr>
          <p:sp>
            <p:nvSpPr>
              <p:cNvPr id="787" name=""/>
              <p:cNvSpPr/>
              <p:nvPr/>
            </p:nvSpPr>
            <p:spPr>
              <a:xfrm>
                <a:off x="4954680" y="4444920"/>
                <a:ext cx="334800" cy="204804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4954680" y="4444920"/>
                <a:ext cx="334800" cy="10188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4954680" y="470052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flipV="1">
                <a:off x="4954680" y="464904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4954680" y="562284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flipV="1">
                <a:off x="4954680" y="557136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flipV="1">
                <a:off x="4954680" y="644148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4954680" y="4700520"/>
                <a:ext cx="334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4954680" y="5622840"/>
                <a:ext cx="334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4954680" y="4444920"/>
                <a:ext cx="334800" cy="2048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7" name=""/>
            <p:cNvGrpSpPr/>
            <p:nvPr/>
          </p:nvGrpSpPr>
          <p:grpSpPr>
            <a:xfrm>
              <a:off x="4037040" y="4756320"/>
              <a:ext cx="223920" cy="1047600"/>
              <a:chOff x="4037040" y="4756320"/>
              <a:chExt cx="223920" cy="1047600"/>
            </a:xfrm>
          </p:grpSpPr>
          <p:sp>
            <p:nvSpPr>
              <p:cNvPr id="798" name=""/>
              <p:cNvSpPr/>
              <p:nvPr/>
            </p:nvSpPr>
            <p:spPr>
              <a:xfrm>
                <a:off x="4037040" y="4756320"/>
                <a:ext cx="223920" cy="104760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4037040" y="4756320"/>
                <a:ext cx="223920" cy="5184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flipV="1">
                <a:off x="4037040" y="5778000"/>
                <a:ext cx="223920" cy="2592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037040" y="4756320"/>
                <a:ext cx="223920" cy="1047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"/>
            <p:cNvSpPr/>
            <p:nvPr/>
          </p:nvSpPr>
          <p:spPr>
            <a:xfrm flipV="1">
              <a:off x="4067280" y="5587200"/>
              <a:ext cx="168120" cy="157320"/>
            </a:xfrm>
            <a:prstGeom prst="ellipse">
              <a:avLst/>
            </a:prstGeom>
            <a:gradFill rotWithShape="0">
              <a:gsLst>
                <a:gs pos="0">
                  <a:srgbClr val="424242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635360" y="4687920"/>
              <a:ext cx="223920" cy="1076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664160" y="5583240"/>
              <a:ext cx="166680" cy="154080"/>
            </a:xfrm>
            <a:prstGeom prst="ellipse">
              <a:avLst/>
            </a:prstGeom>
            <a:gradFill rotWithShape="0">
              <a:gsLst>
                <a:gs pos="0">
                  <a:srgbClr val="424242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667400" y="4789440"/>
              <a:ext cx="179280" cy="6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6" name=""/>
            <p:cNvGrpSpPr/>
            <p:nvPr/>
          </p:nvGrpSpPr>
          <p:grpSpPr>
            <a:xfrm>
              <a:off x="4635360" y="4749840"/>
              <a:ext cx="223920" cy="1047600"/>
              <a:chOff x="4635360" y="4749840"/>
              <a:chExt cx="223920" cy="1047600"/>
            </a:xfrm>
          </p:grpSpPr>
          <p:sp>
            <p:nvSpPr>
              <p:cNvPr id="807" name=""/>
              <p:cNvSpPr/>
              <p:nvPr/>
            </p:nvSpPr>
            <p:spPr>
              <a:xfrm>
                <a:off x="4635360" y="4749840"/>
                <a:ext cx="223920" cy="104760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635360" y="4749840"/>
                <a:ext cx="223920" cy="5184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flipV="1">
                <a:off x="4635360" y="5771520"/>
                <a:ext cx="223920" cy="2592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4635360" y="4749840"/>
                <a:ext cx="223920" cy="1047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1" name=""/>
            <p:cNvSpPr/>
            <p:nvPr/>
          </p:nvSpPr>
          <p:spPr>
            <a:xfrm flipV="1">
              <a:off x="4665600" y="5581800"/>
              <a:ext cx="168480" cy="156960"/>
            </a:xfrm>
            <a:prstGeom prst="ellipse">
              <a:avLst/>
            </a:prstGeom>
            <a:gradFill rotWithShape="0">
              <a:gsLst>
                <a:gs pos="0">
                  <a:srgbClr val="424242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2" name=""/>
          <p:cNvSpPr txBox="1"/>
          <p:nvPr/>
        </p:nvSpPr>
        <p:spPr>
          <a:xfrm>
            <a:off x="6480000" y="3895560"/>
            <a:ext cx="10800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7740720" y="3895560"/>
            <a:ext cx="10800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6156360" y="3716280"/>
            <a:ext cx="10800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8064360" y="3751200"/>
            <a:ext cx="10800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816" name="">
            <a:hlinkClick r:id="rId3" action="ppaction://hlinksldjump"/>
          </p:cNvPr>
          <p:cNvSpPr/>
          <p:nvPr/>
        </p:nvSpPr>
        <p:spPr>
          <a:xfrm>
            <a:off x="393840" y="6416640"/>
            <a:ext cx="1153800" cy="3603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up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>
            <a:hlinkClick r:id="" action="ppaction://hlinkshowjump?jump=nextslide"/>
          </p:cNvPr>
          <p:cNvSpPr/>
          <p:nvPr/>
        </p:nvSpPr>
        <p:spPr>
          <a:xfrm rot="5400000">
            <a:off x="1548360" y="6452280"/>
            <a:ext cx="358920" cy="287280"/>
          </a:xfrm>
          <a:prstGeom prst="triangle">
            <a:avLst>
              <a:gd name="adj" fmla="val 50000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>
            <a:hlinkClick r:id="" action="ppaction://hlinkshowjump?jump=previousslide"/>
          </p:cNvPr>
          <p:cNvSpPr/>
          <p:nvPr/>
        </p:nvSpPr>
        <p:spPr>
          <a:xfrm flipH="1" rot="16200000">
            <a:off x="3456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tting it together (VI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142560" y="1413000"/>
            <a:ext cx="5761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Completing y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ad strap 2 through the ‘A’ clip closest to the Yok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ad this back through ladder lock buckle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2519280" y="5405400"/>
            <a:ext cx="4608720" cy="4348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4421160" y="5324400"/>
            <a:ext cx="176400" cy="54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46464"/>
              </a:gs>
              <a:gs pos="100000">
                <a:srgbClr val="00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4433760" y="5337000"/>
            <a:ext cx="144720" cy="27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4448160" y="5378400"/>
            <a:ext cx="122400" cy="3938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4448160" y="5378400"/>
            <a:ext cx="122400" cy="1908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 flipV="1">
            <a:off x="4448160" y="5753880"/>
            <a:ext cx="122400" cy="1764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4448160" y="5378400"/>
            <a:ext cx="122400" cy="393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5041800" y="5324400"/>
            <a:ext cx="177840" cy="54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46464"/>
              </a:gs>
              <a:gs pos="100000">
                <a:srgbClr val="00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5056200" y="5337000"/>
            <a:ext cx="144360" cy="27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070600" y="5378400"/>
            <a:ext cx="120600" cy="3938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070600" y="5378400"/>
            <a:ext cx="120600" cy="1908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 flipV="1">
            <a:off x="5070600" y="5753880"/>
            <a:ext cx="122040" cy="1764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5070600" y="5378400"/>
            <a:ext cx="120600" cy="393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4448160" y="4795920"/>
            <a:ext cx="122400" cy="5554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5070600" y="4795920"/>
            <a:ext cx="120600" cy="5554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3780000" y="5227560"/>
            <a:ext cx="576000" cy="792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736720" y="5227560"/>
            <a:ext cx="755640" cy="7923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3132000" y="5227560"/>
            <a:ext cx="324000" cy="792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2771640" y="5227560"/>
            <a:ext cx="324000" cy="792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5292720" y="5227560"/>
            <a:ext cx="576360" cy="792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157800" y="5227560"/>
            <a:ext cx="755640" cy="7923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6553080" y="5227560"/>
            <a:ext cx="324000" cy="792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6192720" y="5227560"/>
            <a:ext cx="324000" cy="792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2771640" y="5227560"/>
            <a:ext cx="324000" cy="541440"/>
          </a:xfrm>
          <a:custGeom>
            <a:avLst/>
            <a:gdLst>
              <a:gd name="textAreaLeft" fmla="*/ 71280 w 324000"/>
              <a:gd name="textAreaRight" fmla="*/ 252720 w 324000"/>
              <a:gd name="textAreaTop" fmla="*/ 118800 h 541440"/>
              <a:gd name="textAreaBottom" fmla="*/ 422640 h 5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0054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3132000" y="5227560"/>
            <a:ext cx="324000" cy="541440"/>
          </a:xfrm>
          <a:custGeom>
            <a:avLst/>
            <a:gdLst>
              <a:gd name="textAreaLeft" fmla="*/ 71280 w 324000"/>
              <a:gd name="textAreaRight" fmla="*/ 252720 w 324000"/>
              <a:gd name="textAreaTop" fmla="*/ 118800 h 541440"/>
              <a:gd name="textAreaBottom" fmla="*/ 422640 h 5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0054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3780000" y="5227560"/>
            <a:ext cx="576000" cy="433440"/>
          </a:xfrm>
          <a:custGeom>
            <a:avLst/>
            <a:gdLst>
              <a:gd name="textAreaLeft" fmla="*/ 126720 w 576000"/>
              <a:gd name="textAreaRight" fmla="*/ 449280 w 576000"/>
              <a:gd name="textAreaTop" fmla="*/ 95040 h 433440"/>
              <a:gd name="textAreaBottom" fmla="*/ 33840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0054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5292720" y="5227560"/>
            <a:ext cx="576360" cy="433440"/>
          </a:xfrm>
          <a:custGeom>
            <a:avLst/>
            <a:gdLst>
              <a:gd name="textAreaLeft" fmla="*/ 126720 w 576360"/>
              <a:gd name="textAreaRight" fmla="*/ 449640 w 576360"/>
              <a:gd name="textAreaTop" fmla="*/ 95040 h 433440"/>
              <a:gd name="textAreaBottom" fmla="*/ 33840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0054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6192720" y="5227560"/>
            <a:ext cx="324000" cy="541440"/>
          </a:xfrm>
          <a:custGeom>
            <a:avLst/>
            <a:gdLst>
              <a:gd name="textAreaLeft" fmla="*/ 71280 w 324000"/>
              <a:gd name="textAreaRight" fmla="*/ 252720 w 324000"/>
              <a:gd name="textAreaTop" fmla="*/ 118800 h 541440"/>
              <a:gd name="textAreaBottom" fmla="*/ 422640 h 5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0054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6553080" y="5227560"/>
            <a:ext cx="324000" cy="541440"/>
          </a:xfrm>
          <a:custGeom>
            <a:avLst/>
            <a:gdLst>
              <a:gd name="textAreaLeft" fmla="*/ 71280 w 324000"/>
              <a:gd name="textAreaRight" fmla="*/ 252720 w 324000"/>
              <a:gd name="textAreaTop" fmla="*/ 118800 h 541440"/>
              <a:gd name="textAreaBottom" fmla="*/ 422640 h 5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0054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916360" y="5372280"/>
            <a:ext cx="34920" cy="5396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276720" y="5372280"/>
            <a:ext cx="34920" cy="5396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6338880" y="5337000"/>
            <a:ext cx="34920" cy="5400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6697800" y="5337000"/>
            <a:ext cx="34920" cy="5400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4068720" y="5337000"/>
            <a:ext cx="34920" cy="5400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5581800" y="5337000"/>
            <a:ext cx="34920" cy="5400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2770200" y="4940280"/>
            <a:ext cx="181080" cy="252360"/>
            <a:chOff x="2770200" y="4940280"/>
            <a:chExt cx="181080" cy="252360"/>
          </a:xfrm>
        </p:grpSpPr>
        <p:sp>
          <p:nvSpPr>
            <p:cNvPr id="857" name=""/>
            <p:cNvSpPr/>
            <p:nvPr/>
          </p:nvSpPr>
          <p:spPr>
            <a:xfrm>
              <a:off x="2770200" y="4940280"/>
              <a:ext cx="181080" cy="252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646464"/>
                </a:gs>
                <a:gs pos="100000">
                  <a:srgbClr val="000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786400" y="5003280"/>
              <a:ext cx="147960" cy="1684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786400" y="4960800"/>
              <a:ext cx="147960" cy="21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0" name=""/>
          <p:cNvGrpSpPr/>
          <p:nvPr/>
        </p:nvGrpSpPr>
        <p:grpSpPr>
          <a:xfrm>
            <a:off x="3274920" y="4940280"/>
            <a:ext cx="181080" cy="252360"/>
            <a:chOff x="3274920" y="4940280"/>
            <a:chExt cx="181080" cy="252360"/>
          </a:xfrm>
        </p:grpSpPr>
        <p:sp>
          <p:nvSpPr>
            <p:cNvPr id="861" name=""/>
            <p:cNvSpPr/>
            <p:nvPr/>
          </p:nvSpPr>
          <p:spPr>
            <a:xfrm>
              <a:off x="3274920" y="4940280"/>
              <a:ext cx="181080" cy="252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646464"/>
                </a:gs>
                <a:gs pos="100000">
                  <a:srgbClr val="000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291120" y="5003280"/>
              <a:ext cx="147960" cy="1684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291120" y="4960800"/>
              <a:ext cx="147960" cy="21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4" name=""/>
          <p:cNvGrpSpPr/>
          <p:nvPr/>
        </p:nvGrpSpPr>
        <p:grpSpPr>
          <a:xfrm>
            <a:off x="6191280" y="4940280"/>
            <a:ext cx="181080" cy="252360"/>
            <a:chOff x="6191280" y="4940280"/>
            <a:chExt cx="181080" cy="252360"/>
          </a:xfrm>
        </p:grpSpPr>
        <p:sp>
          <p:nvSpPr>
            <p:cNvPr id="865" name=""/>
            <p:cNvSpPr/>
            <p:nvPr/>
          </p:nvSpPr>
          <p:spPr>
            <a:xfrm>
              <a:off x="6191280" y="4940280"/>
              <a:ext cx="181080" cy="252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646464"/>
                </a:gs>
                <a:gs pos="100000">
                  <a:srgbClr val="000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207480" y="5003280"/>
              <a:ext cx="147960" cy="1684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207480" y="4960800"/>
              <a:ext cx="147960" cy="21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6696000" y="4940280"/>
            <a:ext cx="181080" cy="252360"/>
            <a:chOff x="6696000" y="4940280"/>
            <a:chExt cx="181080" cy="252360"/>
          </a:xfrm>
        </p:grpSpPr>
        <p:sp>
          <p:nvSpPr>
            <p:cNvPr id="869" name=""/>
            <p:cNvSpPr/>
            <p:nvPr/>
          </p:nvSpPr>
          <p:spPr>
            <a:xfrm>
              <a:off x="6696000" y="4940280"/>
              <a:ext cx="181080" cy="252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646464"/>
                </a:gs>
                <a:gs pos="100000">
                  <a:srgbClr val="000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712200" y="5003280"/>
              <a:ext cx="147960" cy="1684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712200" y="4960800"/>
              <a:ext cx="147960" cy="21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2" name=""/>
          <p:cNvSpPr/>
          <p:nvPr/>
        </p:nvSpPr>
        <p:spPr>
          <a:xfrm>
            <a:off x="4392720" y="4170240"/>
            <a:ext cx="863640" cy="72072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3" name=""/>
          <p:cNvGrpSpPr/>
          <p:nvPr/>
        </p:nvGrpSpPr>
        <p:grpSpPr>
          <a:xfrm>
            <a:off x="4433760" y="4732200"/>
            <a:ext cx="150840" cy="230040"/>
            <a:chOff x="4433760" y="4732200"/>
            <a:chExt cx="150840" cy="230040"/>
          </a:xfrm>
        </p:grpSpPr>
        <p:sp>
          <p:nvSpPr>
            <p:cNvPr id="874" name=""/>
            <p:cNvSpPr/>
            <p:nvPr/>
          </p:nvSpPr>
          <p:spPr>
            <a:xfrm>
              <a:off x="4433760" y="4732200"/>
              <a:ext cx="150840" cy="183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457520" y="4859280"/>
              <a:ext cx="104760" cy="102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444920" y="4743360"/>
              <a:ext cx="127080" cy="237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444920" y="4870080"/>
              <a:ext cx="127080" cy="2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444920" y="4824360"/>
              <a:ext cx="127080" cy="2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5064120" y="4746600"/>
            <a:ext cx="150840" cy="230040"/>
            <a:chOff x="5064120" y="4746600"/>
            <a:chExt cx="150840" cy="230040"/>
          </a:xfrm>
        </p:grpSpPr>
        <p:sp>
          <p:nvSpPr>
            <p:cNvPr id="880" name=""/>
            <p:cNvSpPr/>
            <p:nvPr/>
          </p:nvSpPr>
          <p:spPr>
            <a:xfrm>
              <a:off x="5064120" y="4746600"/>
              <a:ext cx="150840" cy="183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087520" y="4873320"/>
              <a:ext cx="104760" cy="103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075640" y="4758120"/>
              <a:ext cx="127440" cy="2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075640" y="4884840"/>
              <a:ext cx="127440" cy="2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075640" y="4838760"/>
              <a:ext cx="127440" cy="2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5" name=""/>
          <p:cNvSpPr/>
          <p:nvPr/>
        </p:nvSpPr>
        <p:spPr>
          <a:xfrm>
            <a:off x="4448160" y="4616280"/>
            <a:ext cx="122400" cy="1303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5078520" y="4761000"/>
            <a:ext cx="126720" cy="219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5078520" y="4616280"/>
            <a:ext cx="122040" cy="144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4392720" y="3897360"/>
            <a:ext cx="863640" cy="287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66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4572000" y="4013280"/>
            <a:ext cx="506520" cy="71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4448160" y="4013280"/>
            <a:ext cx="752400" cy="603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 rot="4182000">
            <a:off x="4196520" y="4435920"/>
            <a:ext cx="122040" cy="5558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 flipH="1" rot="17418000">
            <a:off x="5327640" y="4436280"/>
            <a:ext cx="122040" cy="5558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3" name=""/>
          <p:cNvGrpSpPr/>
          <p:nvPr/>
        </p:nvGrpSpPr>
        <p:grpSpPr>
          <a:xfrm>
            <a:off x="4200480" y="4572000"/>
            <a:ext cx="261000" cy="209520"/>
            <a:chOff x="4200480" y="4572000"/>
            <a:chExt cx="261000" cy="209520"/>
          </a:xfrm>
        </p:grpSpPr>
        <p:sp>
          <p:nvSpPr>
            <p:cNvPr id="894" name=""/>
            <p:cNvSpPr/>
            <p:nvPr/>
          </p:nvSpPr>
          <p:spPr>
            <a:xfrm rot="4054800">
              <a:off x="4272120" y="4584600"/>
              <a:ext cx="150840" cy="183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 rot="4054800">
              <a:off x="4215240" y="4659120"/>
              <a:ext cx="104760" cy="102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 rot="4054800">
              <a:off x="4347360" y="4637880"/>
              <a:ext cx="127080" cy="237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 rot="4054800">
              <a:off x="4230000" y="4686120"/>
              <a:ext cx="127080" cy="2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 rot="4054800">
              <a:off x="4272480" y="4668480"/>
              <a:ext cx="127080" cy="2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9" name=""/>
          <p:cNvGrpSpPr/>
          <p:nvPr/>
        </p:nvGrpSpPr>
        <p:grpSpPr>
          <a:xfrm>
            <a:off x="5185080" y="4572000"/>
            <a:ext cx="261000" cy="209880"/>
            <a:chOff x="5185080" y="4572000"/>
            <a:chExt cx="261000" cy="209880"/>
          </a:xfrm>
        </p:grpSpPr>
        <p:sp>
          <p:nvSpPr>
            <p:cNvPr id="900" name=""/>
            <p:cNvSpPr/>
            <p:nvPr/>
          </p:nvSpPr>
          <p:spPr>
            <a:xfrm flipH="1" rot="17545200">
              <a:off x="5222880" y="4584600"/>
              <a:ext cx="150840" cy="184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 rot="17545200">
              <a:off x="5325480" y="4658760"/>
              <a:ext cx="104760" cy="102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 rot="17545200">
              <a:off x="5171760" y="4637520"/>
              <a:ext cx="127080" cy="237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 rot="17545200">
              <a:off x="5288760" y="4685760"/>
              <a:ext cx="127080" cy="2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 rot="17545200">
              <a:off x="5246640" y="4668480"/>
              <a:ext cx="127080" cy="2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2158920" y="5372280"/>
            <a:ext cx="468360" cy="504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232000" y="5337000"/>
            <a:ext cx="324000" cy="73080"/>
          </a:xfrm>
          <a:custGeom>
            <a:avLst/>
            <a:gdLst>
              <a:gd name="textAreaLeft" fmla="*/ 71280 w 324000"/>
              <a:gd name="textAreaRight" fmla="*/ 252720 w 324000"/>
              <a:gd name="textAreaTop" fmla="*/ 15840 h 73080"/>
              <a:gd name="textAreaBottom" fmla="*/ 57240 h 7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 flipV="1">
            <a:off x="2232000" y="5840280"/>
            <a:ext cx="324000" cy="144720"/>
          </a:xfrm>
          <a:custGeom>
            <a:avLst/>
            <a:gdLst>
              <a:gd name="textAreaLeft" fmla="*/ 71280 w 324000"/>
              <a:gd name="textAreaRight" fmla="*/ 252720 w 324000"/>
              <a:gd name="textAreaTop" fmla="*/ 31680 h 144720"/>
              <a:gd name="textAreaBottom" fmla="*/ 11304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7056360" y="5337000"/>
            <a:ext cx="468360" cy="505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7164360" y="5445000"/>
            <a:ext cx="468360" cy="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7164360" y="5661000"/>
            <a:ext cx="468360" cy="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 txBox="1"/>
          <p:nvPr/>
        </p:nvSpPr>
        <p:spPr>
          <a:xfrm>
            <a:off x="4464000" y="5049720"/>
            <a:ext cx="7164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912" name=""/>
          <p:cNvSpPr txBox="1"/>
          <p:nvPr/>
        </p:nvSpPr>
        <p:spPr>
          <a:xfrm>
            <a:off x="5075280" y="5049720"/>
            <a:ext cx="7128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4284720" y="4473720"/>
            <a:ext cx="108000" cy="18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5292720" y="4473720"/>
            <a:ext cx="108000" cy="18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915" name=""/>
          <p:cNvSpPr txBox="1"/>
          <p:nvPr/>
        </p:nvSpPr>
        <p:spPr>
          <a:xfrm>
            <a:off x="4464000" y="4761000"/>
            <a:ext cx="108000" cy="18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916" name=""/>
          <p:cNvSpPr txBox="1"/>
          <p:nvPr/>
        </p:nvSpPr>
        <p:spPr>
          <a:xfrm>
            <a:off x="5076720" y="4761000"/>
            <a:ext cx="108000" cy="18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917" name=""/>
          <p:cNvSpPr/>
          <p:nvPr/>
        </p:nvSpPr>
        <p:spPr>
          <a:xfrm>
            <a:off x="3311640" y="4616280"/>
            <a:ext cx="122040" cy="3049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 rot="648000">
            <a:off x="3343320" y="4381560"/>
            <a:ext cx="108000" cy="2696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 rot="5083800">
            <a:off x="3458160" y="4274280"/>
            <a:ext cx="122040" cy="3049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 rot="20205000">
            <a:off x="3634920" y="4365720"/>
            <a:ext cx="128520" cy="4125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 rot="16962600">
            <a:off x="3834360" y="4632840"/>
            <a:ext cx="122400" cy="3049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5570280" y="4351680"/>
            <a:ext cx="765000" cy="569520"/>
            <a:chOff x="5570280" y="4351680"/>
            <a:chExt cx="765000" cy="569520"/>
          </a:xfrm>
        </p:grpSpPr>
        <p:sp>
          <p:nvSpPr>
            <p:cNvPr id="923" name=""/>
            <p:cNvSpPr/>
            <p:nvPr/>
          </p:nvSpPr>
          <p:spPr>
            <a:xfrm flipH="1">
              <a:off x="6210000" y="4616280"/>
              <a:ext cx="124920" cy="3049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 rot="20952000">
              <a:off x="6192360" y="4381560"/>
              <a:ext cx="110880" cy="2692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 rot="16516200">
              <a:off x="6060600" y="4270320"/>
              <a:ext cx="122040" cy="3124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 rot="1395000">
              <a:off x="5871240" y="4365720"/>
              <a:ext cx="131760" cy="4122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 rot="4637400">
              <a:off x="5674680" y="4628880"/>
              <a:ext cx="122400" cy="3124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8" name=""/>
          <p:cNvSpPr txBox="1"/>
          <p:nvPr/>
        </p:nvSpPr>
        <p:spPr>
          <a:xfrm>
            <a:off x="3311640" y="4653000"/>
            <a:ext cx="10800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6192720" y="4653000"/>
            <a:ext cx="10800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930" name="">
            <a:hlinkClick r:id="rId3" action="ppaction://hlinksldjump"/>
          </p:cNvPr>
          <p:cNvSpPr/>
          <p:nvPr/>
        </p:nvSpPr>
        <p:spPr>
          <a:xfrm>
            <a:off x="393840" y="6416640"/>
            <a:ext cx="1153800" cy="3603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up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>
            <a:hlinkClick r:id="" action="ppaction://hlinkshowjump?jump=nextslide"/>
          </p:cNvPr>
          <p:cNvSpPr/>
          <p:nvPr/>
        </p:nvSpPr>
        <p:spPr>
          <a:xfrm rot="5400000">
            <a:off x="1548360" y="6452280"/>
            <a:ext cx="358920" cy="287280"/>
          </a:xfrm>
          <a:prstGeom prst="triangle">
            <a:avLst>
              <a:gd name="adj" fmla="val 50000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>
            <a:hlinkClick r:id="" action="ppaction://hlinkshowjump?jump=previousslide"/>
          </p:cNvPr>
          <p:cNvSpPr/>
          <p:nvPr/>
        </p:nvSpPr>
        <p:spPr>
          <a:xfrm flipH="1" rot="16200000">
            <a:off x="3456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tting it together (IX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142560" y="1413000"/>
            <a:ext cx="392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 Completing y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ad strap 3 through the outermost ‘A’ cli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ad this back through ladder lock buckle C on the yo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4030560" y="5800680"/>
            <a:ext cx="4608720" cy="4348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5932440" y="5719680"/>
            <a:ext cx="176400" cy="54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46464"/>
              </a:gs>
              <a:gs pos="100000">
                <a:srgbClr val="00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5945040" y="5732640"/>
            <a:ext cx="144720" cy="26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320" bIns="-22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5959440" y="5773680"/>
            <a:ext cx="122400" cy="3938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5959440" y="5773680"/>
            <a:ext cx="122400" cy="1908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 flipV="1">
            <a:off x="5959440" y="6149160"/>
            <a:ext cx="122400" cy="1764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5959440" y="5773680"/>
            <a:ext cx="122400" cy="393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6553080" y="5719680"/>
            <a:ext cx="177840" cy="54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46464"/>
              </a:gs>
              <a:gs pos="100000">
                <a:srgbClr val="00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6567480" y="5732640"/>
            <a:ext cx="144360" cy="26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320" bIns="-22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6581880" y="5773680"/>
            <a:ext cx="120600" cy="3938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6581880" y="5773680"/>
            <a:ext cx="120600" cy="1908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 flipV="1">
            <a:off x="6581880" y="6149160"/>
            <a:ext cx="122040" cy="1764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6581880" y="5773680"/>
            <a:ext cx="120600" cy="393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5959440" y="5191200"/>
            <a:ext cx="122400" cy="5554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6581880" y="5191200"/>
            <a:ext cx="120600" cy="5554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5291280" y="5622840"/>
            <a:ext cx="576000" cy="792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4248000" y="5622840"/>
            <a:ext cx="755640" cy="7923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4643280" y="5622840"/>
            <a:ext cx="324000" cy="792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4282920" y="5622840"/>
            <a:ext cx="324000" cy="792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6804000" y="5622840"/>
            <a:ext cx="576360" cy="792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7669080" y="5622840"/>
            <a:ext cx="755640" cy="7923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8064360" y="5622840"/>
            <a:ext cx="324000" cy="792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7704000" y="5622840"/>
            <a:ext cx="324000" cy="792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4282920" y="5622840"/>
            <a:ext cx="324000" cy="541440"/>
          </a:xfrm>
          <a:custGeom>
            <a:avLst/>
            <a:gdLst>
              <a:gd name="textAreaLeft" fmla="*/ 71280 w 324000"/>
              <a:gd name="textAreaRight" fmla="*/ 252720 w 324000"/>
              <a:gd name="textAreaTop" fmla="*/ 118800 h 541440"/>
              <a:gd name="textAreaBottom" fmla="*/ 422640 h 5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0054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4643280" y="5622840"/>
            <a:ext cx="324000" cy="541440"/>
          </a:xfrm>
          <a:custGeom>
            <a:avLst/>
            <a:gdLst>
              <a:gd name="textAreaLeft" fmla="*/ 71280 w 324000"/>
              <a:gd name="textAreaRight" fmla="*/ 252720 w 324000"/>
              <a:gd name="textAreaTop" fmla="*/ 118800 h 541440"/>
              <a:gd name="textAreaBottom" fmla="*/ 422640 h 5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0054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5291280" y="5622840"/>
            <a:ext cx="576000" cy="433440"/>
          </a:xfrm>
          <a:custGeom>
            <a:avLst/>
            <a:gdLst>
              <a:gd name="textAreaLeft" fmla="*/ 126720 w 576000"/>
              <a:gd name="textAreaRight" fmla="*/ 449280 w 576000"/>
              <a:gd name="textAreaTop" fmla="*/ 95040 h 433440"/>
              <a:gd name="textAreaBottom" fmla="*/ 33840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0054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6804000" y="5622840"/>
            <a:ext cx="576360" cy="433440"/>
          </a:xfrm>
          <a:custGeom>
            <a:avLst/>
            <a:gdLst>
              <a:gd name="textAreaLeft" fmla="*/ 126720 w 576360"/>
              <a:gd name="textAreaRight" fmla="*/ 449640 w 576360"/>
              <a:gd name="textAreaTop" fmla="*/ 95040 h 433440"/>
              <a:gd name="textAreaBottom" fmla="*/ 33840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0054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7704000" y="5622840"/>
            <a:ext cx="324000" cy="541440"/>
          </a:xfrm>
          <a:custGeom>
            <a:avLst/>
            <a:gdLst>
              <a:gd name="textAreaLeft" fmla="*/ 71280 w 324000"/>
              <a:gd name="textAreaRight" fmla="*/ 252720 w 324000"/>
              <a:gd name="textAreaTop" fmla="*/ 118800 h 541440"/>
              <a:gd name="textAreaBottom" fmla="*/ 422640 h 5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0054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8064360" y="5622840"/>
            <a:ext cx="324000" cy="541440"/>
          </a:xfrm>
          <a:custGeom>
            <a:avLst/>
            <a:gdLst>
              <a:gd name="textAreaLeft" fmla="*/ 71280 w 324000"/>
              <a:gd name="textAreaRight" fmla="*/ 252720 w 324000"/>
              <a:gd name="textAreaTop" fmla="*/ 118800 h 541440"/>
              <a:gd name="textAreaBottom" fmla="*/ 422640 h 5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0054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4427640" y="5767560"/>
            <a:ext cx="34920" cy="5396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4788000" y="5767560"/>
            <a:ext cx="34920" cy="5396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7850160" y="5732640"/>
            <a:ext cx="34920" cy="5396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8209080" y="5732640"/>
            <a:ext cx="34920" cy="5396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5580000" y="5732640"/>
            <a:ext cx="34920" cy="5396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7093080" y="5732640"/>
            <a:ext cx="34920" cy="5396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0" name=""/>
          <p:cNvGrpSpPr/>
          <p:nvPr/>
        </p:nvGrpSpPr>
        <p:grpSpPr>
          <a:xfrm>
            <a:off x="4281480" y="5335560"/>
            <a:ext cx="181080" cy="252360"/>
            <a:chOff x="4281480" y="5335560"/>
            <a:chExt cx="181080" cy="252360"/>
          </a:xfrm>
        </p:grpSpPr>
        <p:sp>
          <p:nvSpPr>
            <p:cNvPr id="971" name=""/>
            <p:cNvSpPr/>
            <p:nvPr/>
          </p:nvSpPr>
          <p:spPr>
            <a:xfrm>
              <a:off x="4281480" y="5335560"/>
              <a:ext cx="181080" cy="252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646464"/>
                </a:gs>
                <a:gs pos="100000">
                  <a:srgbClr val="000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297680" y="5398560"/>
              <a:ext cx="147960" cy="1684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297680" y="5356080"/>
              <a:ext cx="147960" cy="21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4786200" y="5335560"/>
            <a:ext cx="181080" cy="252360"/>
            <a:chOff x="4786200" y="5335560"/>
            <a:chExt cx="181080" cy="252360"/>
          </a:xfrm>
        </p:grpSpPr>
        <p:sp>
          <p:nvSpPr>
            <p:cNvPr id="975" name=""/>
            <p:cNvSpPr/>
            <p:nvPr/>
          </p:nvSpPr>
          <p:spPr>
            <a:xfrm>
              <a:off x="4786200" y="5335560"/>
              <a:ext cx="181080" cy="252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646464"/>
                </a:gs>
                <a:gs pos="100000">
                  <a:srgbClr val="000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802400" y="5398560"/>
              <a:ext cx="147960" cy="1684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802400" y="5356080"/>
              <a:ext cx="147960" cy="21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8" name=""/>
          <p:cNvGrpSpPr/>
          <p:nvPr/>
        </p:nvGrpSpPr>
        <p:grpSpPr>
          <a:xfrm>
            <a:off x="7702560" y="5335560"/>
            <a:ext cx="181080" cy="252360"/>
            <a:chOff x="7702560" y="5335560"/>
            <a:chExt cx="181080" cy="252360"/>
          </a:xfrm>
        </p:grpSpPr>
        <p:sp>
          <p:nvSpPr>
            <p:cNvPr id="979" name=""/>
            <p:cNvSpPr/>
            <p:nvPr/>
          </p:nvSpPr>
          <p:spPr>
            <a:xfrm>
              <a:off x="7702560" y="5335560"/>
              <a:ext cx="181080" cy="252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646464"/>
                </a:gs>
                <a:gs pos="100000">
                  <a:srgbClr val="000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7718760" y="5398560"/>
              <a:ext cx="147960" cy="1684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718760" y="5356080"/>
              <a:ext cx="147960" cy="21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"/>
          <p:cNvGrpSpPr/>
          <p:nvPr/>
        </p:nvGrpSpPr>
        <p:grpSpPr>
          <a:xfrm>
            <a:off x="8207280" y="5335560"/>
            <a:ext cx="181080" cy="252360"/>
            <a:chOff x="8207280" y="5335560"/>
            <a:chExt cx="181080" cy="252360"/>
          </a:xfrm>
        </p:grpSpPr>
        <p:sp>
          <p:nvSpPr>
            <p:cNvPr id="983" name=""/>
            <p:cNvSpPr/>
            <p:nvPr/>
          </p:nvSpPr>
          <p:spPr>
            <a:xfrm>
              <a:off x="8207280" y="5335560"/>
              <a:ext cx="181080" cy="252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646464"/>
                </a:gs>
                <a:gs pos="100000">
                  <a:srgbClr val="000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8223480" y="5398560"/>
              <a:ext cx="147960" cy="1684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8223480" y="5356080"/>
              <a:ext cx="147960" cy="21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6" name=""/>
          <p:cNvSpPr/>
          <p:nvPr/>
        </p:nvSpPr>
        <p:spPr>
          <a:xfrm>
            <a:off x="5904000" y="3968640"/>
            <a:ext cx="863640" cy="131760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7" name=""/>
          <p:cNvGrpSpPr/>
          <p:nvPr/>
        </p:nvGrpSpPr>
        <p:grpSpPr>
          <a:xfrm>
            <a:off x="5945040" y="5127480"/>
            <a:ext cx="150840" cy="230040"/>
            <a:chOff x="5945040" y="5127480"/>
            <a:chExt cx="150840" cy="230040"/>
          </a:xfrm>
        </p:grpSpPr>
        <p:sp>
          <p:nvSpPr>
            <p:cNvPr id="988" name=""/>
            <p:cNvSpPr/>
            <p:nvPr/>
          </p:nvSpPr>
          <p:spPr>
            <a:xfrm>
              <a:off x="5945040" y="5127480"/>
              <a:ext cx="150840" cy="183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968800" y="5254560"/>
              <a:ext cx="104760" cy="102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956200" y="5138640"/>
              <a:ext cx="127080" cy="237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956200" y="5265360"/>
              <a:ext cx="127080" cy="2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956200" y="5219640"/>
              <a:ext cx="127080" cy="2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3" name=""/>
          <p:cNvGrpSpPr/>
          <p:nvPr/>
        </p:nvGrpSpPr>
        <p:grpSpPr>
          <a:xfrm>
            <a:off x="6575400" y="5141880"/>
            <a:ext cx="150840" cy="230400"/>
            <a:chOff x="6575400" y="5141880"/>
            <a:chExt cx="150840" cy="230400"/>
          </a:xfrm>
        </p:grpSpPr>
        <p:sp>
          <p:nvSpPr>
            <p:cNvPr id="994" name=""/>
            <p:cNvSpPr/>
            <p:nvPr/>
          </p:nvSpPr>
          <p:spPr>
            <a:xfrm>
              <a:off x="6575400" y="5141880"/>
              <a:ext cx="150840" cy="184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598800" y="5268600"/>
              <a:ext cx="104760" cy="103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6586920" y="5153400"/>
              <a:ext cx="127440" cy="2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586920" y="5280120"/>
              <a:ext cx="127440" cy="2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586920" y="5234040"/>
              <a:ext cx="127440" cy="2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9" name=""/>
          <p:cNvSpPr/>
          <p:nvPr/>
        </p:nvSpPr>
        <p:spPr>
          <a:xfrm>
            <a:off x="5959440" y="5011560"/>
            <a:ext cx="122400" cy="1303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6589800" y="5156280"/>
            <a:ext cx="127080" cy="223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6589800" y="5011560"/>
            <a:ext cx="122040" cy="144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6083280" y="4408560"/>
            <a:ext cx="506520" cy="71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5959440" y="4184640"/>
            <a:ext cx="752400" cy="826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 rot="4182000">
            <a:off x="5326560" y="4580640"/>
            <a:ext cx="109800" cy="11872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 flipH="1" rot="17418000">
            <a:off x="7199280" y="4478760"/>
            <a:ext cx="101880" cy="12970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6" name=""/>
          <p:cNvGrpSpPr/>
          <p:nvPr/>
        </p:nvGrpSpPr>
        <p:grpSpPr>
          <a:xfrm>
            <a:off x="5711760" y="4895640"/>
            <a:ext cx="261000" cy="209520"/>
            <a:chOff x="5711760" y="4895640"/>
            <a:chExt cx="261000" cy="209520"/>
          </a:xfrm>
        </p:grpSpPr>
        <p:sp>
          <p:nvSpPr>
            <p:cNvPr id="1007" name=""/>
            <p:cNvSpPr/>
            <p:nvPr/>
          </p:nvSpPr>
          <p:spPr>
            <a:xfrm rot="4054800">
              <a:off x="5783400" y="4908240"/>
              <a:ext cx="150840" cy="183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 rot="4054800">
              <a:off x="5726520" y="4982760"/>
              <a:ext cx="104760" cy="102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 rot="4054800">
              <a:off x="5858640" y="4961520"/>
              <a:ext cx="127080" cy="237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 rot="4054800">
              <a:off x="5741280" y="5009760"/>
              <a:ext cx="127080" cy="2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 rot="4054800">
              <a:off x="5783760" y="4992120"/>
              <a:ext cx="127080" cy="2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2" name=""/>
          <p:cNvGrpSpPr/>
          <p:nvPr/>
        </p:nvGrpSpPr>
        <p:grpSpPr>
          <a:xfrm>
            <a:off x="6696720" y="4867200"/>
            <a:ext cx="261000" cy="209880"/>
            <a:chOff x="6696720" y="4867200"/>
            <a:chExt cx="261000" cy="209880"/>
          </a:xfrm>
        </p:grpSpPr>
        <p:sp>
          <p:nvSpPr>
            <p:cNvPr id="1013" name=""/>
            <p:cNvSpPr/>
            <p:nvPr/>
          </p:nvSpPr>
          <p:spPr>
            <a:xfrm flipH="1" rot="17545200">
              <a:off x="6734520" y="4879800"/>
              <a:ext cx="150840" cy="184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H="1" rot="17545200">
              <a:off x="6837120" y="4954320"/>
              <a:ext cx="104760" cy="102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 flipH="1" rot="17545200">
              <a:off x="6683400" y="4933080"/>
              <a:ext cx="127080" cy="237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H="1" rot="17545200">
              <a:off x="6800400" y="4981320"/>
              <a:ext cx="127080" cy="2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H="1" rot="17545200">
              <a:off x="6758280" y="4963680"/>
              <a:ext cx="127080" cy="2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8" name=""/>
          <p:cNvSpPr/>
          <p:nvPr/>
        </p:nvSpPr>
        <p:spPr>
          <a:xfrm>
            <a:off x="3670200" y="5767560"/>
            <a:ext cx="468360" cy="504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3743280" y="5732640"/>
            <a:ext cx="324000" cy="72720"/>
          </a:xfrm>
          <a:custGeom>
            <a:avLst/>
            <a:gdLst>
              <a:gd name="textAreaLeft" fmla="*/ 71280 w 324000"/>
              <a:gd name="textAreaRight" fmla="*/ 252720 w 324000"/>
              <a:gd name="textAreaTop" fmla="*/ 15840 h 72720"/>
              <a:gd name="textAreaBottom" fmla="*/ 56880 h 7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3743280" y="6235560"/>
            <a:ext cx="324000" cy="144720"/>
          </a:xfrm>
          <a:custGeom>
            <a:avLst/>
            <a:gdLst>
              <a:gd name="textAreaLeft" fmla="*/ 71280 w 324000"/>
              <a:gd name="textAreaRight" fmla="*/ 252720 w 324000"/>
              <a:gd name="textAreaTop" fmla="*/ 31680 h 144720"/>
              <a:gd name="textAreaBottom" fmla="*/ 11304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8567640" y="5732640"/>
            <a:ext cx="468360" cy="504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8675640" y="5840280"/>
            <a:ext cx="468360" cy="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8675640" y="6056280"/>
            <a:ext cx="468360" cy="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6335640" y="2421000"/>
            <a:ext cx="612720" cy="1582560"/>
          </a:xfrm>
          <a:prstGeom prst="parallelogram">
            <a:avLst>
              <a:gd name="adj" fmla="val 44023"/>
            </a:avLst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 flipH="1">
            <a:off x="5687280" y="2422440"/>
            <a:ext cx="647640" cy="1582920"/>
          </a:xfrm>
          <a:prstGeom prst="parallelogram">
            <a:avLst>
              <a:gd name="adj" fmla="val 44023"/>
            </a:avLst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5688000" y="2170080"/>
            <a:ext cx="360360" cy="395280"/>
          </a:xfrm>
          <a:prstGeom prst="ellipse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6588000" y="2168640"/>
            <a:ext cx="360360" cy="395280"/>
          </a:xfrm>
          <a:prstGeom prst="ellipse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 rot="20999400">
            <a:off x="5904000" y="3428640"/>
            <a:ext cx="323640" cy="10800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 flipH="1" rot="600600">
            <a:off x="6443640" y="3429000"/>
            <a:ext cx="324000" cy="10800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 rot="20999400">
            <a:off x="5761080" y="2491920"/>
            <a:ext cx="323640" cy="10800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 flipH="1" rot="600600">
            <a:off x="6588000" y="2492280"/>
            <a:ext cx="324000" cy="10800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2" name=""/>
          <p:cNvGrpSpPr/>
          <p:nvPr/>
        </p:nvGrpSpPr>
        <p:grpSpPr>
          <a:xfrm>
            <a:off x="5796000" y="1989360"/>
            <a:ext cx="144360" cy="345960"/>
            <a:chOff x="5796000" y="1989360"/>
            <a:chExt cx="144360" cy="345960"/>
          </a:xfrm>
        </p:grpSpPr>
        <p:grpSp>
          <p:nvGrpSpPr>
            <p:cNvPr id="1033" name=""/>
            <p:cNvGrpSpPr/>
            <p:nvPr/>
          </p:nvGrpSpPr>
          <p:grpSpPr>
            <a:xfrm>
              <a:off x="5796000" y="1989360"/>
              <a:ext cx="144360" cy="230040"/>
              <a:chOff x="5796000" y="1989360"/>
              <a:chExt cx="144360" cy="230040"/>
            </a:xfrm>
          </p:grpSpPr>
          <p:sp>
            <p:nvSpPr>
              <p:cNvPr id="1034" name=""/>
              <p:cNvSpPr/>
              <p:nvPr/>
            </p:nvSpPr>
            <p:spPr>
              <a:xfrm flipV="1">
                <a:off x="5796000" y="2035080"/>
                <a:ext cx="144360" cy="18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 flipV="1">
                <a:off x="5818680" y="1989360"/>
                <a:ext cx="100080" cy="102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flipV="1">
                <a:off x="5806440" y="2184480"/>
                <a:ext cx="121320" cy="2376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 flipV="1">
                <a:off x="5806440" y="2057040"/>
                <a:ext cx="121320" cy="2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 flipV="1">
                <a:off x="5806440" y="2103480"/>
                <a:ext cx="121320" cy="2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9" name=""/>
            <p:cNvSpPr/>
            <p:nvPr/>
          </p:nvSpPr>
          <p:spPr>
            <a:xfrm flipV="1">
              <a:off x="5809320" y="2205000"/>
              <a:ext cx="117000" cy="1299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0" name=""/>
          <p:cNvGrpSpPr/>
          <p:nvPr/>
        </p:nvGrpSpPr>
        <p:grpSpPr>
          <a:xfrm>
            <a:off x="6696000" y="1989360"/>
            <a:ext cx="144360" cy="345960"/>
            <a:chOff x="6696000" y="1989360"/>
            <a:chExt cx="144360" cy="345960"/>
          </a:xfrm>
        </p:grpSpPr>
        <p:grpSp>
          <p:nvGrpSpPr>
            <p:cNvPr id="1041" name=""/>
            <p:cNvGrpSpPr/>
            <p:nvPr/>
          </p:nvGrpSpPr>
          <p:grpSpPr>
            <a:xfrm>
              <a:off x="6696000" y="1989360"/>
              <a:ext cx="144360" cy="230040"/>
              <a:chOff x="6696000" y="1989360"/>
              <a:chExt cx="144360" cy="230040"/>
            </a:xfrm>
          </p:grpSpPr>
          <p:sp>
            <p:nvSpPr>
              <p:cNvPr id="1042" name=""/>
              <p:cNvSpPr/>
              <p:nvPr/>
            </p:nvSpPr>
            <p:spPr>
              <a:xfrm flipV="1">
                <a:off x="6696000" y="2035080"/>
                <a:ext cx="144360" cy="18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 flipV="1">
                <a:off x="6718680" y="1989360"/>
                <a:ext cx="100080" cy="102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flipV="1">
                <a:off x="6706440" y="2184480"/>
                <a:ext cx="121320" cy="2376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 flipV="1">
                <a:off x="6706440" y="2057040"/>
                <a:ext cx="121320" cy="2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 flipV="1">
                <a:off x="6706440" y="2103480"/>
                <a:ext cx="121320" cy="2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7" name=""/>
            <p:cNvSpPr/>
            <p:nvPr/>
          </p:nvSpPr>
          <p:spPr>
            <a:xfrm flipV="1">
              <a:off x="6709320" y="2205000"/>
              <a:ext cx="117000" cy="1299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8" name=""/>
          <p:cNvSpPr/>
          <p:nvPr/>
        </p:nvSpPr>
        <p:spPr>
          <a:xfrm>
            <a:off x="4356000" y="1542960"/>
            <a:ext cx="1476360" cy="3757680"/>
          </a:xfrm>
          <a:custGeom>
            <a:avLst/>
            <a:gdLst/>
            <a:ahLst/>
            <a:rect l="l" t="t" r="r" b="b"/>
            <a:pathLst>
              <a:path w="930" h="2367">
                <a:moveTo>
                  <a:pt x="0" y="2367"/>
                </a:moveTo>
                <a:cubicBezTo>
                  <a:pt x="40" y="2042"/>
                  <a:pt x="119" y="806"/>
                  <a:pt x="238" y="414"/>
                </a:cubicBezTo>
                <a:cubicBezTo>
                  <a:pt x="357" y="22"/>
                  <a:pt x="597" y="36"/>
                  <a:pt x="712" y="18"/>
                </a:cubicBezTo>
                <a:cubicBezTo>
                  <a:pt x="827" y="0"/>
                  <a:pt x="885" y="244"/>
                  <a:pt x="930" y="303"/>
                </a:cubicBezTo>
              </a:path>
            </a:pathLst>
          </a:custGeom>
          <a:noFill/>
          <a:ln w="10152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 flipH="1">
            <a:off x="6803280" y="1542960"/>
            <a:ext cx="1476360" cy="3757680"/>
          </a:xfrm>
          <a:custGeom>
            <a:avLst/>
            <a:gdLst/>
            <a:ahLst/>
            <a:rect l="l" t="t" r="r" b="b"/>
            <a:pathLst>
              <a:path w="930" h="2367">
                <a:moveTo>
                  <a:pt x="0" y="2367"/>
                </a:moveTo>
                <a:cubicBezTo>
                  <a:pt x="40" y="2042"/>
                  <a:pt x="119" y="806"/>
                  <a:pt x="238" y="414"/>
                </a:cubicBezTo>
                <a:cubicBezTo>
                  <a:pt x="357" y="22"/>
                  <a:pt x="597" y="36"/>
                  <a:pt x="712" y="18"/>
                </a:cubicBezTo>
                <a:cubicBezTo>
                  <a:pt x="827" y="0"/>
                  <a:pt x="885" y="244"/>
                  <a:pt x="930" y="303"/>
                </a:cubicBezTo>
              </a:path>
            </a:pathLst>
          </a:custGeom>
          <a:noFill/>
          <a:ln w="10152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5796000" y="2203560"/>
            <a:ext cx="108000" cy="18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1051" name=""/>
          <p:cNvSpPr txBox="1"/>
          <p:nvPr/>
        </p:nvSpPr>
        <p:spPr>
          <a:xfrm>
            <a:off x="4572000" y="2492280"/>
            <a:ext cx="10800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1052" name=""/>
          <p:cNvSpPr txBox="1"/>
          <p:nvPr/>
        </p:nvSpPr>
        <p:spPr>
          <a:xfrm>
            <a:off x="6732720" y="2205000"/>
            <a:ext cx="10764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1053" name=""/>
          <p:cNvSpPr txBox="1"/>
          <p:nvPr/>
        </p:nvSpPr>
        <p:spPr>
          <a:xfrm>
            <a:off x="7920000" y="2421000"/>
            <a:ext cx="10800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1054" name="">
            <a:hlinkClick r:id="rId3" action="ppaction://hlinksldjump"/>
          </p:cNvPr>
          <p:cNvSpPr/>
          <p:nvPr/>
        </p:nvSpPr>
        <p:spPr>
          <a:xfrm>
            <a:off x="393840" y="6416640"/>
            <a:ext cx="1153800" cy="3603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up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>
            <a:hlinkClick r:id="" action="ppaction://hlinkshowjump?jump=nextslide"/>
          </p:cNvPr>
          <p:cNvSpPr/>
          <p:nvPr/>
        </p:nvSpPr>
        <p:spPr>
          <a:xfrm rot="5400000">
            <a:off x="1548360" y="6452280"/>
            <a:ext cx="358920" cy="287280"/>
          </a:xfrm>
          <a:prstGeom prst="triangle">
            <a:avLst>
              <a:gd name="adj" fmla="val 50000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>
            <a:hlinkClick r:id="" action="ppaction://hlinkshowjump?jump=previousslide"/>
          </p:cNvPr>
          <p:cNvSpPr/>
          <p:nvPr/>
        </p:nvSpPr>
        <p:spPr>
          <a:xfrm flipH="1" rot="16200000">
            <a:off x="3456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tting it together (X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142560" y="1413000"/>
            <a:ext cx="43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 Testing &amp; 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on webb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front QR buck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dy up, and get them to tighten all ladder lock buckles according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4030560" y="5800680"/>
            <a:ext cx="4608720" cy="4348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5932440" y="5719680"/>
            <a:ext cx="176400" cy="54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46464"/>
              </a:gs>
              <a:gs pos="100000">
                <a:srgbClr val="00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5945040" y="5732640"/>
            <a:ext cx="144720" cy="26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320" bIns="-22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5959440" y="5773680"/>
            <a:ext cx="122400" cy="3938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5959440" y="5773680"/>
            <a:ext cx="122400" cy="1908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 flipV="1">
            <a:off x="5959440" y="6149160"/>
            <a:ext cx="122400" cy="1764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5959440" y="5773680"/>
            <a:ext cx="122400" cy="393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6553080" y="5719680"/>
            <a:ext cx="177840" cy="54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46464"/>
              </a:gs>
              <a:gs pos="100000">
                <a:srgbClr val="00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6567480" y="5732640"/>
            <a:ext cx="144360" cy="26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320" bIns="-22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6581880" y="5773680"/>
            <a:ext cx="120600" cy="3938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581880" y="5773680"/>
            <a:ext cx="120600" cy="1908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 flipV="1">
            <a:off x="6581880" y="6149160"/>
            <a:ext cx="122040" cy="1764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6581880" y="5773680"/>
            <a:ext cx="120600" cy="393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5959440" y="5191200"/>
            <a:ext cx="122400" cy="5554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6581880" y="5191200"/>
            <a:ext cx="120600" cy="5554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5291280" y="5622840"/>
            <a:ext cx="576000" cy="792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4248000" y="5622840"/>
            <a:ext cx="755640" cy="7923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4643280" y="5622840"/>
            <a:ext cx="324000" cy="792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4282920" y="5622840"/>
            <a:ext cx="324000" cy="792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6804000" y="5622840"/>
            <a:ext cx="576360" cy="792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7669080" y="5622840"/>
            <a:ext cx="755640" cy="7923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8064360" y="5622840"/>
            <a:ext cx="324000" cy="792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7704000" y="5622840"/>
            <a:ext cx="324000" cy="792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4282920" y="5622840"/>
            <a:ext cx="324000" cy="541440"/>
          </a:xfrm>
          <a:custGeom>
            <a:avLst/>
            <a:gdLst>
              <a:gd name="textAreaLeft" fmla="*/ 71280 w 324000"/>
              <a:gd name="textAreaRight" fmla="*/ 252720 w 324000"/>
              <a:gd name="textAreaTop" fmla="*/ 118800 h 541440"/>
              <a:gd name="textAreaBottom" fmla="*/ 422640 h 5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0054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4643280" y="5622840"/>
            <a:ext cx="324000" cy="541440"/>
          </a:xfrm>
          <a:custGeom>
            <a:avLst/>
            <a:gdLst>
              <a:gd name="textAreaLeft" fmla="*/ 71280 w 324000"/>
              <a:gd name="textAreaRight" fmla="*/ 252720 w 324000"/>
              <a:gd name="textAreaTop" fmla="*/ 118800 h 541440"/>
              <a:gd name="textAreaBottom" fmla="*/ 422640 h 5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0054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5291280" y="5622840"/>
            <a:ext cx="576000" cy="433440"/>
          </a:xfrm>
          <a:custGeom>
            <a:avLst/>
            <a:gdLst>
              <a:gd name="textAreaLeft" fmla="*/ 126720 w 576000"/>
              <a:gd name="textAreaRight" fmla="*/ 449280 w 576000"/>
              <a:gd name="textAreaTop" fmla="*/ 95040 h 433440"/>
              <a:gd name="textAreaBottom" fmla="*/ 33840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0054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6804000" y="5622840"/>
            <a:ext cx="576360" cy="433440"/>
          </a:xfrm>
          <a:custGeom>
            <a:avLst/>
            <a:gdLst>
              <a:gd name="textAreaLeft" fmla="*/ 126720 w 576360"/>
              <a:gd name="textAreaRight" fmla="*/ 449640 w 576360"/>
              <a:gd name="textAreaTop" fmla="*/ 95040 h 433440"/>
              <a:gd name="textAreaBottom" fmla="*/ 33840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0054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7704000" y="5622840"/>
            <a:ext cx="324000" cy="541440"/>
          </a:xfrm>
          <a:custGeom>
            <a:avLst/>
            <a:gdLst>
              <a:gd name="textAreaLeft" fmla="*/ 71280 w 324000"/>
              <a:gd name="textAreaRight" fmla="*/ 252720 w 324000"/>
              <a:gd name="textAreaTop" fmla="*/ 118800 h 541440"/>
              <a:gd name="textAreaBottom" fmla="*/ 422640 h 5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0054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8064360" y="5622840"/>
            <a:ext cx="324000" cy="541440"/>
          </a:xfrm>
          <a:custGeom>
            <a:avLst/>
            <a:gdLst>
              <a:gd name="textAreaLeft" fmla="*/ 71280 w 324000"/>
              <a:gd name="textAreaRight" fmla="*/ 252720 w 324000"/>
              <a:gd name="textAreaTop" fmla="*/ 118800 h 541440"/>
              <a:gd name="textAreaBottom" fmla="*/ 422640 h 5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0054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4427640" y="5767560"/>
            <a:ext cx="34920" cy="5396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4788000" y="5767560"/>
            <a:ext cx="34920" cy="5396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7850160" y="5732640"/>
            <a:ext cx="34920" cy="5396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8209080" y="5732640"/>
            <a:ext cx="34920" cy="5396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5580000" y="5732640"/>
            <a:ext cx="34920" cy="5396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7093080" y="5732640"/>
            <a:ext cx="34920" cy="5396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4" name=""/>
          <p:cNvGrpSpPr/>
          <p:nvPr/>
        </p:nvGrpSpPr>
        <p:grpSpPr>
          <a:xfrm>
            <a:off x="4281480" y="5335560"/>
            <a:ext cx="181080" cy="252360"/>
            <a:chOff x="4281480" y="5335560"/>
            <a:chExt cx="181080" cy="252360"/>
          </a:xfrm>
        </p:grpSpPr>
        <p:sp>
          <p:nvSpPr>
            <p:cNvPr id="1095" name=""/>
            <p:cNvSpPr/>
            <p:nvPr/>
          </p:nvSpPr>
          <p:spPr>
            <a:xfrm>
              <a:off x="4281480" y="5335560"/>
              <a:ext cx="181080" cy="252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646464"/>
                </a:gs>
                <a:gs pos="100000">
                  <a:srgbClr val="000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4297680" y="5398560"/>
              <a:ext cx="147960" cy="1684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4297680" y="5356080"/>
              <a:ext cx="147960" cy="21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8" name=""/>
          <p:cNvGrpSpPr/>
          <p:nvPr/>
        </p:nvGrpSpPr>
        <p:grpSpPr>
          <a:xfrm>
            <a:off x="4786200" y="5335560"/>
            <a:ext cx="181080" cy="252360"/>
            <a:chOff x="4786200" y="5335560"/>
            <a:chExt cx="181080" cy="252360"/>
          </a:xfrm>
        </p:grpSpPr>
        <p:sp>
          <p:nvSpPr>
            <p:cNvPr id="1099" name=""/>
            <p:cNvSpPr/>
            <p:nvPr/>
          </p:nvSpPr>
          <p:spPr>
            <a:xfrm>
              <a:off x="4786200" y="5335560"/>
              <a:ext cx="181080" cy="252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646464"/>
                </a:gs>
                <a:gs pos="100000">
                  <a:srgbClr val="000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802400" y="5398560"/>
              <a:ext cx="147960" cy="1684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802400" y="5356080"/>
              <a:ext cx="147960" cy="21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2" name=""/>
          <p:cNvGrpSpPr/>
          <p:nvPr/>
        </p:nvGrpSpPr>
        <p:grpSpPr>
          <a:xfrm>
            <a:off x="7702560" y="5335560"/>
            <a:ext cx="181080" cy="252360"/>
            <a:chOff x="7702560" y="5335560"/>
            <a:chExt cx="181080" cy="252360"/>
          </a:xfrm>
        </p:grpSpPr>
        <p:sp>
          <p:nvSpPr>
            <p:cNvPr id="1103" name=""/>
            <p:cNvSpPr/>
            <p:nvPr/>
          </p:nvSpPr>
          <p:spPr>
            <a:xfrm>
              <a:off x="7702560" y="5335560"/>
              <a:ext cx="181080" cy="252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646464"/>
                </a:gs>
                <a:gs pos="100000">
                  <a:srgbClr val="000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718760" y="5398560"/>
              <a:ext cx="147960" cy="1684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7718760" y="5356080"/>
              <a:ext cx="147960" cy="21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6" name=""/>
          <p:cNvGrpSpPr/>
          <p:nvPr/>
        </p:nvGrpSpPr>
        <p:grpSpPr>
          <a:xfrm>
            <a:off x="8207280" y="5335560"/>
            <a:ext cx="181080" cy="252360"/>
            <a:chOff x="8207280" y="5335560"/>
            <a:chExt cx="181080" cy="252360"/>
          </a:xfrm>
        </p:grpSpPr>
        <p:sp>
          <p:nvSpPr>
            <p:cNvPr id="1107" name=""/>
            <p:cNvSpPr/>
            <p:nvPr/>
          </p:nvSpPr>
          <p:spPr>
            <a:xfrm>
              <a:off x="8207280" y="5335560"/>
              <a:ext cx="181080" cy="252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646464"/>
                </a:gs>
                <a:gs pos="100000">
                  <a:srgbClr val="000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8223480" y="5398560"/>
              <a:ext cx="147960" cy="1684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223480" y="5356080"/>
              <a:ext cx="147960" cy="21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0" name=""/>
          <p:cNvSpPr/>
          <p:nvPr/>
        </p:nvSpPr>
        <p:spPr>
          <a:xfrm>
            <a:off x="5904000" y="3968640"/>
            <a:ext cx="863640" cy="131760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1" name=""/>
          <p:cNvGrpSpPr/>
          <p:nvPr/>
        </p:nvGrpSpPr>
        <p:grpSpPr>
          <a:xfrm>
            <a:off x="5945040" y="5127480"/>
            <a:ext cx="150840" cy="230040"/>
            <a:chOff x="5945040" y="5127480"/>
            <a:chExt cx="150840" cy="230040"/>
          </a:xfrm>
        </p:grpSpPr>
        <p:sp>
          <p:nvSpPr>
            <p:cNvPr id="1112" name=""/>
            <p:cNvSpPr/>
            <p:nvPr/>
          </p:nvSpPr>
          <p:spPr>
            <a:xfrm>
              <a:off x="5945040" y="5127480"/>
              <a:ext cx="150840" cy="183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968800" y="5254560"/>
              <a:ext cx="104760" cy="102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5956200" y="5138640"/>
              <a:ext cx="127080" cy="237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5956200" y="5265360"/>
              <a:ext cx="127080" cy="2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956200" y="5219640"/>
              <a:ext cx="127080" cy="2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"/>
          <p:cNvGrpSpPr/>
          <p:nvPr/>
        </p:nvGrpSpPr>
        <p:grpSpPr>
          <a:xfrm>
            <a:off x="6575400" y="5141880"/>
            <a:ext cx="150840" cy="230400"/>
            <a:chOff x="6575400" y="5141880"/>
            <a:chExt cx="150840" cy="230400"/>
          </a:xfrm>
        </p:grpSpPr>
        <p:sp>
          <p:nvSpPr>
            <p:cNvPr id="1118" name=""/>
            <p:cNvSpPr/>
            <p:nvPr/>
          </p:nvSpPr>
          <p:spPr>
            <a:xfrm>
              <a:off x="6575400" y="5141880"/>
              <a:ext cx="150840" cy="184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6598800" y="5268600"/>
              <a:ext cx="104760" cy="103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6586920" y="5153400"/>
              <a:ext cx="127440" cy="2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586920" y="5280120"/>
              <a:ext cx="127440" cy="2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586920" y="5234040"/>
              <a:ext cx="127440" cy="2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3" name=""/>
          <p:cNvSpPr/>
          <p:nvPr/>
        </p:nvSpPr>
        <p:spPr>
          <a:xfrm>
            <a:off x="5959440" y="5011560"/>
            <a:ext cx="122400" cy="1303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6589800" y="5156280"/>
            <a:ext cx="127080" cy="223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6589800" y="5011560"/>
            <a:ext cx="122040" cy="144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6083280" y="4408560"/>
            <a:ext cx="506520" cy="71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5959440" y="4184640"/>
            <a:ext cx="752400" cy="826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 rot="4182000">
            <a:off x="5326560" y="4580640"/>
            <a:ext cx="109800" cy="11872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 flipH="1" rot="17418000">
            <a:off x="7199280" y="4478760"/>
            <a:ext cx="101880" cy="12970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0" name=""/>
          <p:cNvGrpSpPr/>
          <p:nvPr/>
        </p:nvGrpSpPr>
        <p:grpSpPr>
          <a:xfrm>
            <a:off x="5711760" y="4895640"/>
            <a:ext cx="261000" cy="209520"/>
            <a:chOff x="5711760" y="4895640"/>
            <a:chExt cx="261000" cy="209520"/>
          </a:xfrm>
        </p:grpSpPr>
        <p:sp>
          <p:nvSpPr>
            <p:cNvPr id="1131" name=""/>
            <p:cNvSpPr/>
            <p:nvPr/>
          </p:nvSpPr>
          <p:spPr>
            <a:xfrm rot="4054800">
              <a:off x="5783400" y="4908240"/>
              <a:ext cx="150840" cy="183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 rot="4054800">
              <a:off x="5726520" y="4982760"/>
              <a:ext cx="104760" cy="102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 rot="4054800">
              <a:off x="5858640" y="4961520"/>
              <a:ext cx="127080" cy="237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 rot="4054800">
              <a:off x="5741280" y="5009760"/>
              <a:ext cx="127080" cy="2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 rot="4054800">
              <a:off x="5783760" y="4992120"/>
              <a:ext cx="127080" cy="2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6" name=""/>
          <p:cNvGrpSpPr/>
          <p:nvPr/>
        </p:nvGrpSpPr>
        <p:grpSpPr>
          <a:xfrm>
            <a:off x="6696720" y="4867200"/>
            <a:ext cx="261000" cy="209880"/>
            <a:chOff x="6696720" y="4867200"/>
            <a:chExt cx="261000" cy="209880"/>
          </a:xfrm>
        </p:grpSpPr>
        <p:sp>
          <p:nvSpPr>
            <p:cNvPr id="1137" name=""/>
            <p:cNvSpPr/>
            <p:nvPr/>
          </p:nvSpPr>
          <p:spPr>
            <a:xfrm flipH="1" rot="17545200">
              <a:off x="6734520" y="4879800"/>
              <a:ext cx="150840" cy="184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 rot="17545200">
              <a:off x="6837120" y="4954320"/>
              <a:ext cx="104760" cy="102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 rot="17545200">
              <a:off x="6683400" y="4933080"/>
              <a:ext cx="127080" cy="237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H="1" rot="17545200">
              <a:off x="6800400" y="4981320"/>
              <a:ext cx="127080" cy="2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 rot="17545200">
              <a:off x="6758280" y="4963680"/>
              <a:ext cx="127080" cy="2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2" name=""/>
          <p:cNvSpPr/>
          <p:nvPr/>
        </p:nvSpPr>
        <p:spPr>
          <a:xfrm>
            <a:off x="3670200" y="5767560"/>
            <a:ext cx="468360" cy="504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3743280" y="5732640"/>
            <a:ext cx="324000" cy="72720"/>
          </a:xfrm>
          <a:custGeom>
            <a:avLst/>
            <a:gdLst>
              <a:gd name="textAreaLeft" fmla="*/ 71280 w 324000"/>
              <a:gd name="textAreaRight" fmla="*/ 252720 w 324000"/>
              <a:gd name="textAreaTop" fmla="*/ 15840 h 72720"/>
              <a:gd name="textAreaBottom" fmla="*/ 56880 h 7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 flipV="1">
            <a:off x="3743280" y="6235560"/>
            <a:ext cx="324000" cy="144720"/>
          </a:xfrm>
          <a:custGeom>
            <a:avLst/>
            <a:gdLst>
              <a:gd name="textAreaLeft" fmla="*/ 71280 w 324000"/>
              <a:gd name="textAreaRight" fmla="*/ 252720 w 324000"/>
              <a:gd name="textAreaTop" fmla="*/ 31680 h 144720"/>
              <a:gd name="textAreaBottom" fmla="*/ 11304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8567640" y="5732640"/>
            <a:ext cx="468360" cy="504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8675640" y="5840280"/>
            <a:ext cx="468360" cy="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8675640" y="6056280"/>
            <a:ext cx="468360" cy="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6335640" y="2421000"/>
            <a:ext cx="612720" cy="1582560"/>
          </a:xfrm>
          <a:prstGeom prst="parallelogram">
            <a:avLst>
              <a:gd name="adj" fmla="val 44023"/>
            </a:avLst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 flipH="1">
            <a:off x="5687280" y="2422440"/>
            <a:ext cx="647640" cy="1582920"/>
          </a:xfrm>
          <a:prstGeom prst="parallelogram">
            <a:avLst>
              <a:gd name="adj" fmla="val 44023"/>
            </a:avLst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5688000" y="2170080"/>
            <a:ext cx="360360" cy="395280"/>
          </a:xfrm>
          <a:prstGeom prst="ellipse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6588000" y="2168640"/>
            <a:ext cx="360360" cy="395280"/>
          </a:xfrm>
          <a:prstGeom prst="ellipse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 rot="20999400">
            <a:off x="5904000" y="3428640"/>
            <a:ext cx="323640" cy="10800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 flipH="1" rot="600600">
            <a:off x="6443640" y="3429000"/>
            <a:ext cx="324000" cy="10800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 rot="20999400">
            <a:off x="5761080" y="2491920"/>
            <a:ext cx="323640" cy="10800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 flipH="1" rot="600600">
            <a:off x="6588000" y="2492280"/>
            <a:ext cx="324000" cy="10800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"/>
          <p:cNvGrpSpPr/>
          <p:nvPr/>
        </p:nvGrpSpPr>
        <p:grpSpPr>
          <a:xfrm>
            <a:off x="5796000" y="1989360"/>
            <a:ext cx="144360" cy="345960"/>
            <a:chOff x="5796000" y="1989360"/>
            <a:chExt cx="144360" cy="345960"/>
          </a:xfrm>
        </p:grpSpPr>
        <p:grpSp>
          <p:nvGrpSpPr>
            <p:cNvPr id="1157" name=""/>
            <p:cNvGrpSpPr/>
            <p:nvPr/>
          </p:nvGrpSpPr>
          <p:grpSpPr>
            <a:xfrm>
              <a:off x="5796000" y="1989360"/>
              <a:ext cx="144360" cy="230040"/>
              <a:chOff x="5796000" y="1989360"/>
              <a:chExt cx="144360" cy="230040"/>
            </a:xfrm>
          </p:grpSpPr>
          <p:sp>
            <p:nvSpPr>
              <p:cNvPr id="1158" name=""/>
              <p:cNvSpPr/>
              <p:nvPr/>
            </p:nvSpPr>
            <p:spPr>
              <a:xfrm flipV="1">
                <a:off x="5796000" y="2035080"/>
                <a:ext cx="144360" cy="18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 flipV="1">
                <a:off x="5818680" y="1989360"/>
                <a:ext cx="100080" cy="102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 flipV="1">
                <a:off x="5806440" y="2184480"/>
                <a:ext cx="121320" cy="2376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 flipV="1">
                <a:off x="5806440" y="2057040"/>
                <a:ext cx="121320" cy="2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 flipV="1">
                <a:off x="5806440" y="2103480"/>
                <a:ext cx="121320" cy="2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3" name=""/>
            <p:cNvSpPr/>
            <p:nvPr/>
          </p:nvSpPr>
          <p:spPr>
            <a:xfrm flipV="1">
              <a:off x="5809320" y="2205000"/>
              <a:ext cx="117000" cy="1299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4" name=""/>
          <p:cNvGrpSpPr/>
          <p:nvPr/>
        </p:nvGrpSpPr>
        <p:grpSpPr>
          <a:xfrm>
            <a:off x="6696000" y="1989360"/>
            <a:ext cx="144360" cy="345960"/>
            <a:chOff x="6696000" y="1989360"/>
            <a:chExt cx="144360" cy="345960"/>
          </a:xfrm>
        </p:grpSpPr>
        <p:grpSp>
          <p:nvGrpSpPr>
            <p:cNvPr id="1165" name=""/>
            <p:cNvGrpSpPr/>
            <p:nvPr/>
          </p:nvGrpSpPr>
          <p:grpSpPr>
            <a:xfrm>
              <a:off x="6696000" y="1989360"/>
              <a:ext cx="144360" cy="230040"/>
              <a:chOff x="6696000" y="1989360"/>
              <a:chExt cx="144360" cy="230040"/>
            </a:xfrm>
          </p:grpSpPr>
          <p:sp>
            <p:nvSpPr>
              <p:cNvPr id="1166" name=""/>
              <p:cNvSpPr/>
              <p:nvPr/>
            </p:nvSpPr>
            <p:spPr>
              <a:xfrm flipV="1">
                <a:off x="6696000" y="2035080"/>
                <a:ext cx="144360" cy="18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 flipV="1">
                <a:off x="6718680" y="1989360"/>
                <a:ext cx="100080" cy="102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 flipV="1">
                <a:off x="6706440" y="2184480"/>
                <a:ext cx="121320" cy="2376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 flipV="1">
                <a:off x="6706440" y="2057040"/>
                <a:ext cx="121320" cy="2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 flipV="1">
                <a:off x="6706440" y="2103480"/>
                <a:ext cx="121320" cy="2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1" name=""/>
            <p:cNvSpPr/>
            <p:nvPr/>
          </p:nvSpPr>
          <p:spPr>
            <a:xfrm flipV="1">
              <a:off x="6709320" y="2205000"/>
              <a:ext cx="117000" cy="1299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2" name=""/>
          <p:cNvSpPr/>
          <p:nvPr/>
        </p:nvSpPr>
        <p:spPr>
          <a:xfrm>
            <a:off x="4356000" y="1542960"/>
            <a:ext cx="1476360" cy="3757680"/>
          </a:xfrm>
          <a:custGeom>
            <a:avLst/>
            <a:gdLst/>
            <a:ahLst/>
            <a:rect l="l" t="t" r="r" b="b"/>
            <a:pathLst>
              <a:path w="930" h="2367">
                <a:moveTo>
                  <a:pt x="0" y="2367"/>
                </a:moveTo>
                <a:cubicBezTo>
                  <a:pt x="40" y="2042"/>
                  <a:pt x="119" y="806"/>
                  <a:pt x="238" y="414"/>
                </a:cubicBezTo>
                <a:cubicBezTo>
                  <a:pt x="357" y="22"/>
                  <a:pt x="597" y="36"/>
                  <a:pt x="712" y="18"/>
                </a:cubicBezTo>
                <a:cubicBezTo>
                  <a:pt x="827" y="0"/>
                  <a:pt x="885" y="244"/>
                  <a:pt x="930" y="303"/>
                </a:cubicBezTo>
              </a:path>
            </a:pathLst>
          </a:custGeom>
          <a:noFill/>
          <a:ln w="10152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 flipH="1">
            <a:off x="6803280" y="1542960"/>
            <a:ext cx="1476360" cy="3757680"/>
          </a:xfrm>
          <a:custGeom>
            <a:avLst/>
            <a:gdLst/>
            <a:ahLst/>
            <a:rect l="l" t="t" r="r" b="b"/>
            <a:pathLst>
              <a:path w="930" h="2367">
                <a:moveTo>
                  <a:pt x="0" y="2367"/>
                </a:moveTo>
                <a:cubicBezTo>
                  <a:pt x="40" y="2042"/>
                  <a:pt x="119" y="806"/>
                  <a:pt x="238" y="414"/>
                </a:cubicBezTo>
                <a:cubicBezTo>
                  <a:pt x="357" y="22"/>
                  <a:pt x="597" y="36"/>
                  <a:pt x="712" y="18"/>
                </a:cubicBezTo>
                <a:cubicBezTo>
                  <a:pt x="827" y="0"/>
                  <a:pt x="885" y="244"/>
                  <a:pt x="930" y="303"/>
                </a:cubicBezTo>
              </a:path>
            </a:pathLst>
          </a:custGeom>
          <a:noFill/>
          <a:ln w="10152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>
            <a:hlinkClick r:id="rId3" action="ppaction://hlinksldjump"/>
          </p:cNvPr>
          <p:cNvSpPr/>
          <p:nvPr/>
        </p:nvSpPr>
        <p:spPr>
          <a:xfrm>
            <a:off x="393840" y="6416640"/>
            <a:ext cx="1153800" cy="3603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up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>
            <a:hlinkClick r:id="" action="ppaction://hlinkshowjump?jump=nextslide"/>
          </p:cNvPr>
          <p:cNvSpPr/>
          <p:nvPr/>
        </p:nvSpPr>
        <p:spPr>
          <a:xfrm rot="5400000">
            <a:off x="1548360" y="6452280"/>
            <a:ext cx="358920" cy="287280"/>
          </a:xfrm>
          <a:prstGeom prst="triangle">
            <a:avLst>
              <a:gd name="adj" fmla="val 50000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>
            <a:hlinkClick r:id="" action="ppaction://hlinkshowjump?jump=previousslide"/>
          </p:cNvPr>
          <p:cNvSpPr/>
          <p:nvPr/>
        </p:nvSpPr>
        <p:spPr>
          <a:xfrm flipH="1" rot="16200000">
            <a:off x="3456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rther Webbing Equi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p Pad / Hippo P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-rd Minimi Pou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enching Tool Pou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irator Pou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o Pouch (349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al-Role Radio Pou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stol Hols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80 Bayonet Fro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-Cutter Fro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fle Grenade Po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p ut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9" name="" descr=""/>
          <p:cNvPicPr/>
          <p:nvPr/>
        </p:nvPicPr>
        <p:blipFill>
          <a:blip r:embed="rId1"/>
          <a:stretch/>
        </p:blipFill>
        <p:spPr>
          <a:xfrm>
            <a:off x="4680000" y="2133720"/>
            <a:ext cx="2052720" cy="1919160"/>
          </a:xfrm>
          <a:prstGeom prst="rect">
            <a:avLst/>
          </a:prstGeom>
          <a:ln w="0">
            <a:noFill/>
          </a:ln>
        </p:spPr>
      </p:pic>
      <p:pic>
        <p:nvPicPr>
          <p:cNvPr id="1180" name="" descr=""/>
          <p:cNvPicPr/>
          <p:nvPr/>
        </p:nvPicPr>
        <p:blipFill>
          <a:blip r:embed="rId2"/>
          <a:stretch/>
        </p:blipFill>
        <p:spPr>
          <a:xfrm>
            <a:off x="7236000" y="3645000"/>
            <a:ext cx="1355400" cy="1974600"/>
          </a:xfrm>
          <a:prstGeom prst="rect">
            <a:avLst/>
          </a:prstGeom>
          <a:ln w="0">
            <a:noFill/>
          </a:ln>
        </p:spPr>
      </p:pic>
      <p:pic>
        <p:nvPicPr>
          <p:cNvPr id="1181" name="" descr=""/>
          <p:cNvPicPr/>
          <p:nvPr/>
        </p:nvPicPr>
        <p:blipFill>
          <a:blip r:embed="rId3"/>
          <a:stretch/>
        </p:blipFill>
        <p:spPr>
          <a:xfrm>
            <a:off x="4716360" y="4653000"/>
            <a:ext cx="1944720" cy="1733400"/>
          </a:xfrm>
          <a:prstGeom prst="rect">
            <a:avLst/>
          </a:prstGeom>
          <a:ln w="0">
            <a:noFill/>
          </a:ln>
        </p:spPr>
      </p:pic>
      <p:pic>
        <p:nvPicPr>
          <p:cNvPr id="1182" name="" descr=""/>
          <p:cNvPicPr/>
          <p:nvPr/>
        </p:nvPicPr>
        <p:blipFill>
          <a:blip r:embed="rId4"/>
          <a:stretch/>
        </p:blipFill>
        <p:spPr>
          <a:xfrm>
            <a:off x="6823080" y="1484280"/>
            <a:ext cx="1781280" cy="2232000"/>
          </a:xfrm>
          <a:prstGeom prst="rect">
            <a:avLst/>
          </a:prstGeom>
          <a:ln w="0">
            <a:noFill/>
          </a:ln>
        </p:spPr>
      </p:pic>
      <p:sp>
        <p:nvSpPr>
          <p:cNvPr id="1183" name="">
            <a:hlinkClick r:id="rId5" action="ppaction://hlinksldjump"/>
          </p:cNvPr>
          <p:cNvSpPr/>
          <p:nvPr/>
        </p:nvSpPr>
        <p:spPr>
          <a:xfrm>
            <a:off x="393840" y="6416640"/>
            <a:ext cx="1117440" cy="3603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>
            <a:hlinkClick r:id="" action="ppaction://hlinkshowjump?jump=nextslide"/>
          </p:cNvPr>
          <p:cNvSpPr/>
          <p:nvPr/>
        </p:nvSpPr>
        <p:spPr>
          <a:xfrm rot="5400000">
            <a:off x="151164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>
            <a:hlinkClick r:id="" action="ppaction://hlinkshowjump?jump=previousslide"/>
          </p:cNvPr>
          <p:cNvSpPr/>
          <p:nvPr/>
        </p:nvSpPr>
        <p:spPr>
          <a:xfrm flipH="1" rot="16200000">
            <a:off x="3456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PL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son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a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y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pment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is the current tactical webbing system of the British Arm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consists of a Belt, Yoke (shoulder harness) and a number of Pouch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ed with PLCE Webbing is a series of other similar load carrying equipment and rucks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77080" y="4221000"/>
            <a:ext cx="1789200" cy="22082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british_army_type_plce_infantry_bergen_olive"/>
          <p:cNvPicPr/>
          <p:nvPr/>
        </p:nvPicPr>
        <p:blipFill>
          <a:blip r:embed="rId2"/>
          <a:stretch/>
        </p:blipFill>
        <p:spPr>
          <a:xfrm>
            <a:off x="4716360" y="4292640"/>
            <a:ext cx="1897200" cy="2352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bergens_and_webbing_side_pocket_set"/>
          <p:cNvPicPr/>
          <p:nvPr/>
        </p:nvPicPr>
        <p:blipFill>
          <a:blip r:embed="rId3"/>
          <a:stretch/>
        </p:blipFill>
        <p:spPr>
          <a:xfrm>
            <a:off x="2987640" y="4724280"/>
            <a:ext cx="1434960" cy="1489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bergens_and_webbing_soldier_95_plce_webbing_dpm"/>
          <p:cNvPicPr/>
          <p:nvPr/>
        </p:nvPicPr>
        <p:blipFill>
          <a:blip r:embed="rId4"/>
          <a:stretch/>
        </p:blipFill>
        <p:spPr>
          <a:xfrm>
            <a:off x="324000" y="4578480"/>
            <a:ext cx="2519280" cy="1704960"/>
          </a:xfrm>
          <a:prstGeom prst="rect">
            <a:avLst/>
          </a:prstGeom>
          <a:ln w="0">
            <a:noFill/>
          </a:ln>
        </p:spPr>
      </p:pic>
      <p:sp>
        <p:nvSpPr>
          <p:cNvPr id="58" name="">
            <a:hlinkClick r:id="rId5" action="ppaction://hlinksldjump"/>
          </p:cNvPr>
          <p:cNvSpPr/>
          <p:nvPr/>
        </p:nvSpPr>
        <p:spPr>
          <a:xfrm>
            <a:off x="393840" y="6416640"/>
            <a:ext cx="1117440" cy="3603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nextslide"/>
          </p:cNvPr>
          <p:cNvSpPr/>
          <p:nvPr/>
        </p:nvSpPr>
        <p:spPr>
          <a:xfrm rot="5400000">
            <a:off x="151164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previousslide"/>
          </p:cNvPr>
          <p:cNvSpPr/>
          <p:nvPr/>
        </p:nvSpPr>
        <p:spPr>
          <a:xfrm flipH="1" rot="16200000">
            <a:off x="3456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 of PLCE (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CE replaced 58 Pattern webbing, which was made of olive canvas: this system was outdated by the 1980’s. It was very heavy, uncomfortable and shrank when wet- these problems were well noted by soldiers during the 1982 Falklands W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 introduced Nylon M-67 (and lat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I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l-purpo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ghtweigh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dividu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y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pment, )) type webbing during the Vietnam War to overcome the issues associated with canvas in damp clima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ing their lead, Britain developed 72-Patt webbing, which was based on 58-Patt in nylon. This had very limited use, and was not on general iss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1" action="ppaction://hlinksldjump"/>
          </p:cNvPr>
          <p:cNvSpPr/>
          <p:nvPr/>
        </p:nvSpPr>
        <p:spPr>
          <a:xfrm>
            <a:off x="393840" y="6416640"/>
            <a:ext cx="1117440" cy="3603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" action="ppaction://hlinkshowjump?jump=nextslide"/>
          </p:cNvPr>
          <p:cNvSpPr/>
          <p:nvPr/>
        </p:nvSpPr>
        <p:spPr>
          <a:xfrm rot="5400000">
            <a:off x="151164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" action="ppaction://hlinkshowjump?jump=previousslide"/>
          </p:cNvPr>
          <p:cNvSpPr/>
          <p:nvPr/>
        </p:nvSpPr>
        <p:spPr>
          <a:xfrm flipH="1" rot="16200000">
            <a:off x="3456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 of PLCE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s resumed with the introduction of the SA80 Rifle in the mid-late 80’s. Experimental (85-Patt) PLCE appeared at this time. It was very similar to the first Issue PLCE, but used snaps for closure on all pouc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PLCE (90-Patt) appeared around 1988, in OG. The original type used ’58 pattern C-Hooks for belt attachment, and angled D-Rings for Yoke attachment on the Ammo pouches (so there were separate left and right pouche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production Utility Pouches had additional belt attachments for high mounting, like the ammo pouches of '37 or '44 Pattern webb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1" action="ppaction://hlinksldjump"/>
          </p:cNvPr>
          <p:cNvSpPr/>
          <p:nvPr/>
        </p:nvSpPr>
        <p:spPr>
          <a:xfrm>
            <a:off x="393840" y="6416640"/>
            <a:ext cx="1117440" cy="3603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" action="ppaction://hlinkshowjump?jump=nextslide"/>
          </p:cNvPr>
          <p:cNvSpPr/>
          <p:nvPr/>
        </p:nvSpPr>
        <p:spPr>
          <a:xfrm rot="5400000">
            <a:off x="151164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" action="ppaction://hlinkshowjump?jump=previousslide"/>
          </p:cNvPr>
          <p:cNvSpPr/>
          <p:nvPr/>
        </p:nvSpPr>
        <p:spPr>
          <a:xfrm flipH="1" rot="16200000">
            <a:off x="3456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 of PLCE (I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er OG webbing has ambidextrous Yoke fittings and standard PLCE belt attachments. The Disruptive Pattern Material (DPM) version (95-Patt/Soldier 95) has been made since about 199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riginal concept for PLCE was modular. Known as CEFO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mb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pment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ght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er) the minimum rig was two Double Ammo Pouches, known as CEFO-AO (Assault Order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this, Canteens, Respirators, Entrenching Tools and Bayonets could be add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rId1" action="ppaction://hlinksldjump"/>
          </p:cNvPr>
          <p:cNvSpPr/>
          <p:nvPr/>
        </p:nvSpPr>
        <p:spPr>
          <a:xfrm>
            <a:off x="393840" y="6416640"/>
            <a:ext cx="1117440" cy="3603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" action="ppaction://hlinkshowjump?jump=nextslide"/>
          </p:cNvPr>
          <p:cNvSpPr/>
          <p:nvPr/>
        </p:nvSpPr>
        <p:spPr>
          <a:xfrm rot="5400000">
            <a:off x="151164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" action="ppaction://hlinkshowjump?jump=previousslide"/>
          </p:cNvPr>
          <p:cNvSpPr/>
          <p:nvPr/>
        </p:nvSpPr>
        <p:spPr>
          <a:xfrm flipH="1" rot="16200000">
            <a:off x="3456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CE Ver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9280" y="1701720"/>
            <a:ext cx="8578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primary versions of PLCE Webbing exist: OG (90-Patt) and DPM (95-Pat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eries of minor modifications to buckles, clips and fastenings also exist within these two versions, dependant on the year of manufa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: OG only: two types of ammo pouch - left and right. Ammo pouches are internally divided, providing enough space for two magazines per pouch. Pouch fasteners are pull tag ty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: DPM and OG: Two types of ammo pouch - left and right. No internal pouch dividers in ammo pouch. Pouch fasteners are pull tag ty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: DPM and OG: As 2, but pouch fasteners are replaced with quick release cli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: DPM only. Double pouch – pouches are now side specific, can be used on left or right side. No internal dividers. Semi-directional yoke fastening 'D' rings on pouches have been replaced by universal slotted 'A' rings, which also now appear (in pairs) on Utility Pouches as w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a: DPM only: Single ammo pouch. Pull tag type pocket fastener. Other specification as 4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b: DPM only: Single ammo pouch. Quick release clips. Other specification as 4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rId1" action="ppaction://hlinksldjump"/>
          </p:cNvPr>
          <p:cNvSpPr/>
          <p:nvPr/>
        </p:nvSpPr>
        <p:spPr>
          <a:xfrm>
            <a:off x="393840" y="6416640"/>
            <a:ext cx="1117440" cy="3603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" action="ppaction://hlinkshowjump?jump=nextslide"/>
          </p:cNvPr>
          <p:cNvSpPr/>
          <p:nvPr/>
        </p:nvSpPr>
        <p:spPr>
          <a:xfrm rot="5400000">
            <a:off x="151164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" action="ppaction://hlinkshowjump?jump=previousslide"/>
          </p:cNvPr>
          <p:cNvSpPr/>
          <p:nvPr/>
        </p:nvSpPr>
        <p:spPr>
          <a:xfrm flipH="1" rot="16200000">
            <a:off x="3456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te 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bergens_and_webbing_soldier_95_plce_webbing_dpm"/>
          <p:cNvPicPr/>
          <p:nvPr/>
        </p:nvPicPr>
        <p:blipFill>
          <a:blip r:embed="rId1"/>
          <a:stretch/>
        </p:blipFill>
        <p:spPr>
          <a:xfrm>
            <a:off x="250920" y="1557360"/>
            <a:ext cx="4105080" cy="27795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16720" y="1484280"/>
            <a:ext cx="37454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quir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1 x Yo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1 x Be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1 x Utility po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1 x Water bottle po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2 x Ammo pou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2411280" y="2637000"/>
            <a:ext cx="2340000" cy="36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211280" y="3537000"/>
            <a:ext cx="539640" cy="252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1834920" y="4184640"/>
            <a:ext cx="2950920" cy="10080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971280" y="4184640"/>
            <a:ext cx="3708360" cy="18367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2916360" y="4076280"/>
            <a:ext cx="1761840" cy="2890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3743280" y="3897000"/>
            <a:ext cx="900000" cy="2087640"/>
          </a:xfrm>
          <a:prstGeom prst="line">
            <a:avLst/>
          </a:prstGeom>
          <a:ln w="5724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rId7" action="ppaction://hlinksldjump"/>
          </p:cNvPr>
          <p:cNvSpPr/>
          <p:nvPr/>
        </p:nvSpPr>
        <p:spPr>
          <a:xfrm>
            <a:off x="393840" y="6416640"/>
            <a:ext cx="1117440" cy="3603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nextslide"/>
          </p:cNvPr>
          <p:cNvSpPr/>
          <p:nvPr/>
        </p:nvSpPr>
        <p:spPr>
          <a:xfrm rot="5400000">
            <a:off x="151164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" action="ppaction://hlinkshowjump?jump=previousslide"/>
          </p:cNvPr>
          <p:cNvSpPr/>
          <p:nvPr/>
        </p:nvSpPr>
        <p:spPr>
          <a:xfrm flipH="1" rot="16200000">
            <a:off x="3456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nents: Be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0" t="0" r="0" b="6321"/>
          <a:stretch/>
        </p:blipFill>
        <p:spPr>
          <a:xfrm>
            <a:off x="611280" y="2168640"/>
            <a:ext cx="4505400" cy="26668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508720" y="382428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ckle LHS (fix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2951280" y="4041720"/>
            <a:ext cx="2557440" cy="237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508720" y="436572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ick Release cl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2592360" y="4257720"/>
            <a:ext cx="2951280" cy="349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30064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ckle (adjust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1908000" y="4436640"/>
            <a:ext cx="3600720" cy="11048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508720" y="275580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tor s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959280" y="2997360"/>
            <a:ext cx="1620720" cy="14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08720" y="155736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bing lo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4067280" y="1798560"/>
            <a:ext cx="1441440" cy="8017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664000" y="1773360"/>
            <a:ext cx="2808000" cy="5760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4427640" y="3033720"/>
            <a:ext cx="1116000" cy="1429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511280" y="2312640"/>
            <a:ext cx="0" cy="8269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65080" y="1995480"/>
            <a:ext cx="12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ay up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rId2" action="ppaction://hlinksldjump"/>
          </p:cNvPr>
          <p:cNvSpPr/>
          <p:nvPr/>
        </p:nvSpPr>
        <p:spPr>
          <a:xfrm>
            <a:off x="393840" y="6416640"/>
            <a:ext cx="1117440" cy="3603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nextslide"/>
          </p:cNvPr>
          <p:cNvSpPr/>
          <p:nvPr/>
        </p:nvSpPr>
        <p:spPr>
          <a:xfrm rot="5400000">
            <a:off x="151164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previousslide"/>
          </p:cNvPr>
          <p:cNvSpPr/>
          <p:nvPr/>
        </p:nvSpPr>
        <p:spPr>
          <a:xfrm flipH="1" rot="16200000">
            <a:off x="3456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2T12:31:10Z</dcterms:created>
  <dc:creator>Alex Pye</dc:creator>
  <dc:description/>
  <dc:language>en-US</dc:language>
  <cp:lastModifiedBy>Antonino Zema</cp:lastModifiedBy>
  <dcterms:modified xsi:type="dcterms:W3CDTF">2008-11-21T11:24:18Z</dcterms:modified>
  <cp:revision>3</cp:revision>
  <dc:subject/>
  <dc:title>Setting up PLCE webbing</dc:title>
</cp:coreProperties>
</file>